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9DD2CA-E59E-4EB3-9B4C-52CE431AA3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1BED70-01B0-40E8-9B05-65D79B01F529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D91F-DFB9-48CC-9F2F-AC6ACD25E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0619-0490-40C0-86F6-2B04C7E44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739C0F-84D7-4ABD-BC68-AB5B0BA23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EA98B8-14FF-4599-A1A8-61370627F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5F1DD6-B816-4EF6-B48F-9550FD351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20EE76-180B-47A0-A196-1D65AE8C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67021A-758D-4CC5-BF0E-84B3A4EB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C5C3D4-8FAE-40C0-9384-CA640893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71889A-0355-413C-8ED1-8FD006C93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84171C-E9D5-42A8-A61F-1C70F86A0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262A45-0F16-41FF-8539-1011EF7BA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F2D696-436D-4AAC-9272-C5DBFBC6C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772B-E37D-4B6C-84EC-5BEA458DA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C8C65F-F580-40BD-97D0-FD8259FB4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4E55B8-613A-4C02-8AF6-BDD4B8CA7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67F052-3309-46CA-B3EC-5480B6FD4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911B1F-9D24-41AC-B0C6-C86788E6D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4C7790-2CED-46F4-A489-FC7A99E0F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C3C898-E19D-43E1-B70A-60E83CEF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9ACF8D-0DF5-4552-89C0-482A1ABF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606D59-ADB6-47C9-8E3B-824229CE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2EC917-CD6F-49AD-AF61-25D1A8CA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1EBA86-40F4-497B-846E-99A94B1AB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675C-D3D8-4E27-89CC-A0C9569DF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391CC4-C31E-4B99-B9CE-6C6C16DF0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8D6D8B-4A8C-4DA0-92B2-DECECDEEF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B3F314-B76D-4509-8782-08EAD029A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6EFA22-32FB-4974-A149-2D8728B5E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A81852-CD69-4FD7-970C-1D043D993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4C5C64-E1ED-4FE2-99EA-CAF1A07FC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0EE961-702A-4E99-AC69-E85A00365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AD9F1A-5689-49F7-966A-BF7609C7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39B4A8-ECD6-4756-B8E0-651D0E9C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4DC972-81BC-46BD-AD70-A5E32B21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1E85F-2421-49FD-9CD5-99668491B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C69A1F-51EE-4DDE-938B-7913CE2F1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AFDF99-22B2-47D5-B8AE-976D7517D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467E0F-5C77-48D5-9BB0-5BE94389D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7ACDB-9918-4E52-ABDE-4F35699C9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7C23D-5841-43F6-BF78-E569163FE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CD356-DEA8-4C16-87A4-3673AD92A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B6E5F-9E7F-4027-8F4F-6D347E871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F9593-6075-4345-B1F4-EA0BB785F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EE660-1C2E-4C90-857A-7FED7871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3231-0F3B-4024-AEA2-762698983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154EC-9FC3-494B-ABB0-676E4354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CAF86-0D81-48E1-93B2-12ABCD17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C744C-9F01-4473-A0D8-DCBA61C58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C689B-1245-495C-BF8D-4B07E8573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89130-51A3-4597-9FDD-7517053DA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2F67E-B264-44F1-A832-CE4739559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272F7-868A-4949-B6A8-BB5B41D96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3A29C-B591-40AC-9531-D635AB989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59354-AB6A-48FC-AF07-DF3D59FE4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89181-C186-4870-8CB4-B29039687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867E-DC5D-46EB-987E-F3205C6E5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8FF14-0F6E-4286-9F1A-657BDAB85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561A8-3029-4A8A-95EF-C0B2AF8F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FCAFF-1370-4A6C-BF7C-7ACA0500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E02F2-EC19-49E4-A2B0-6406226C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377B0-37ED-4663-AFBF-153A058DB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F3818-71F9-4FD6-99C4-08A7AA6F0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315B8-2D20-4B65-8E78-AA7572F09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CB147-501F-47DC-8234-3A926C112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37CF4-09D0-420F-9E5B-ED93E1DD0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E2DEE-AA1F-43F2-8878-998EAA59E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3F3F-A95E-4FC0-BF3D-D2B422A9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93A0B-F9EC-4BF1-A824-B951C923C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48B6B-C8D0-4DA4-8A1B-AB17131C0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0EF65-BCD3-4222-8D14-F02D834E6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6B530-8826-41F3-94B1-817993E3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8D193-FCE4-473F-AD70-21A5FAF13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DEF4F-B7DD-4F11-A9C6-43BBA5AD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7FEDE-D3B5-4A6C-8E33-254D9DEC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D5640-D4F2-4B79-9476-08AA7B1EA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386ED-685A-49E8-BC1D-BE5011012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4624F-D6E8-4C97-A5AF-374F69AEF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4FBA-6859-4EE9-AB3E-13BF59A2C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9D1D0-B277-419E-A7C0-784135F5C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E4026-4D8B-4B1B-BE9E-6E3F55194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2AA01-D9A5-454F-9508-146FCEFDB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F575D-C3AD-4040-9A2A-67FAC850E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44754-FCC7-4E72-82BC-6DD7F4C5D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AA2EF-C7A7-48C5-89EB-A1482D3F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DE008-6659-409E-A3E0-147DD2D1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FEEDF-3088-4F2A-94C0-DDF67F2A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824C7-3798-4080-9AC7-4D457E379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420C8-380E-4B3F-BD0A-524CAC322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9FF3-57AF-48A2-B776-6635787A4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078F8-4E7B-4CD6-8DB3-8B12E2FA0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F363E-1A55-40DC-894E-53A78972D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3F6B1-3520-488E-83AB-E7D6219E0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1AD2A-FDF1-4C19-95B0-C22BED057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50F19F-4D08-4B51-9D58-368A23C03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3BBAB5-8711-489C-A974-70C48CE96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A6AED6-6534-4F69-BA85-E310E687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E800F-77F2-445A-9462-73749BDB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0E6515-CFEE-46AD-85F3-03ACE879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4E1F8-023B-4A65-88EF-02FA89B6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D78B-7A88-48F8-BC43-4B6E688D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18914-FE56-4A89-A3EB-8A50B792A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97293-8710-41C8-8897-FBF56004A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2557C-AE7F-4BF3-A473-7926A7043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FD7BD2-3380-4BFA-B739-9448512D3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07FE4-741B-41EB-98ED-03E2475D8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6AE0C1-19FE-42DC-A6F2-F23F4A5E5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89343-BDF3-469F-97B8-1B5E2D365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B2A47-156A-4361-89A6-CEF63F0B2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13292-85DD-414C-9E2C-C65253E8C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214357-196A-42D4-8E5D-BE96FDE1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9BF0-CECA-4494-9E84-5EA95C0C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6ED3D4-05ED-497F-B710-EEB5805D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2CD2AB-0925-4293-98EC-47B73C42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58145-11F2-43A5-BD94-CFB92CE95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E1715F-7201-46F9-959A-F58378E03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9D19A-7CEC-4C4F-B948-D1AD09A91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1780E2-08B3-4112-84FA-FB1230BCC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19D909-6D93-435F-AD06-DA80425C2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4DAEEB-8256-4E9B-B661-F2B67F5C5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7B7AF2-8626-4EA4-AAD7-0307403F6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A5F5C9-FA89-47F5-8975-59B46E9F7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E5F1-F7E8-400A-BB72-E4BAB27F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E5CE5F-44B1-496B-9E5F-22A9813C8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9D41D2-0B5D-40CB-85FC-844E07FA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854ABC-4451-4BD4-8348-9E5AA729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2AD4D7-C6C3-4D48-80D2-266FDCF9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7DFBF1-1497-4EB3-BC58-6700A7A14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D64D7C-8503-449C-BE36-EB5CA37E7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9E94E0-69D9-4B71-B911-0DA5FFC65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B7ED51-A640-418F-9AEF-C34A069F3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F556DA-CC72-488C-8C38-0C997DB51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F61834-F575-4CCE-987F-F1F229D60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F816F4-6551-4212-9ACC-4F3FE579C553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2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13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EB7D5E-69D1-451E-B2B4-C2E4A9039A93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7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58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Straight Connector 14"/>
          <p:cNvSpPr/>
          <p:nvPr/>
        </p:nvSpPr>
        <p:spPr>
          <a:xfrm>
            <a:off x="6918480" y="798480"/>
            <a:ext cx="0" cy="466092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41DAC3-FB25-4B17-95CB-4361A0E424B5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Straight Connector 14"/>
          <p:cNvSpPr/>
          <p:nvPr/>
        </p:nvSpPr>
        <p:spPr>
          <a:xfrm>
            <a:off x="2395440" y="3529080"/>
            <a:ext cx="56199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395080" y="328680"/>
            <a:ext cx="30877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434600" y="798480"/>
            <a:ext cx="801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33A8CF-D0C0-437F-B831-A3C4610211AE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32C1B1-9B1A-4FBF-AA96-131FCFE92101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3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Straight Connector 14"/>
          <p:cNvSpPr/>
          <p:nvPr/>
        </p:nvSpPr>
        <p:spPr>
          <a:xfrm>
            <a:off x="1442880" y="3805200"/>
            <a:ext cx="56181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A2106E-C6C8-419B-B962-8C95139ED105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8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BB2A74-04BC-449A-A649-CB38C9763B63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2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Straight Connector 35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376C01-2C7D-4E9F-ADE4-2D9792D5A0CC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7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7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Straight Connector 31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CEAC1A-B038-4EAC-8818-72B8B82E7631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1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Straight Connector 16"/>
          <p:cNvSpPr/>
          <p:nvPr/>
        </p:nvSpPr>
        <p:spPr>
          <a:xfrm>
            <a:off x="1441440" y="3205080"/>
            <a:ext cx="242424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4CFA9E-A1FB-44B0-AADC-20BDD2705070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6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62" name="Group 12"/>
          <p:cNvGrpSpPr/>
          <p:nvPr/>
        </p:nvGrpSpPr>
        <p:grpSpPr>
          <a:xfrm>
            <a:off x="4995720" y="482760"/>
            <a:ext cx="3511800" cy="5148000"/>
            <a:chOff x="4995720" y="482760"/>
            <a:chExt cx="3511800" cy="5148000"/>
          </a:xfrm>
        </p:grpSpPr>
        <p:grpSp>
          <p:nvGrpSpPr>
            <p:cNvPr id="363" name="Rectangle 13"/>
            <p:cNvGrpSpPr/>
            <p:nvPr/>
          </p:nvGrpSpPr>
          <p:grpSpPr>
            <a:xfrm>
              <a:off x="4995720" y="482760"/>
              <a:ext cx="3511800" cy="5148000"/>
              <a:chOff x="4995720" y="482760"/>
              <a:chExt cx="3511800" cy="5148000"/>
            </a:xfrm>
          </p:grpSpPr>
          <p:pic>
            <p:nvPicPr>
              <p:cNvPr id="364" name="Rectangl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4995720" y="482760"/>
                <a:ext cx="3511800" cy="51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5084640" y="495000"/>
                <a:ext cx="3310920" cy="488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366" name="Rectangle 14"/>
            <p:cNvGrpSpPr/>
            <p:nvPr/>
          </p:nvGrpSpPr>
          <p:grpSpPr>
            <a:xfrm>
              <a:off x="5346360" y="771840"/>
              <a:ext cx="2793600" cy="4326840"/>
              <a:chOff x="5346360" y="771840"/>
              <a:chExt cx="2793600" cy="4326840"/>
            </a:xfrm>
          </p:grpSpPr>
          <p:pic>
            <p:nvPicPr>
              <p:cNvPr id="367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5346360" y="771840"/>
                <a:ext cx="2793600" cy="432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5382360" y="808200"/>
                <a:ext cx="2718720" cy="425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369" name="Straight Connector 30"/>
          <p:cNvSpPr/>
          <p:nvPr/>
        </p:nvSpPr>
        <p:spPr>
          <a:xfrm>
            <a:off x="1441440" y="3143160"/>
            <a:ext cx="324180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1436400" y="5470560"/>
            <a:ext cx="32526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1437840" y="318600"/>
            <a:ext cx="32511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15CCD3-3FA7-47B7-9C6F-1E9C2A30AE5C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42920" y="692280"/>
            <a:ext cx="3889440" cy="129672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900" spc="-1" strike="noStrike">
                <a:solidFill>
                  <a:srgbClr val="9973ff"/>
                </a:solidFill>
                <a:latin typeface="Gill Sans MT"/>
              </a:rPr>
              <a:t>ŽSV IZ INFORMATIKE I RAČUNALSTVA ZADARSKE ŽUPANIJE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2773440" y="2420640"/>
            <a:ext cx="3743280" cy="2663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RAD S UČENICIMA S TEŠKOĆAM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Gill Sans MT"/>
              </a:rPr>
              <a:t>MARTA KLOBUČAR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Gill Sans MT"/>
              </a:rPr>
              <a:t>MAG.PAED.SOC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10920" y="804600"/>
            <a:ext cx="74041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610920" y="1989000"/>
            <a:ext cx="740412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ADRŽAJ EDUKACIJE: Operativni sustav Windows 10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CILJEVI: Učenik prepoznaje i uz pomoć može opisati neke temeljne programe koji su dio operacijskog sustava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AKTIVNOSTI:  uz pomoć nastavnika prilagođava korisničko sučelje operacijskog sustava svojim potrebam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TRATEGIJE PODRŠKE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smjeravati njegovu pozornost na nastavne sadržaje, provjeravati ga individualno, osigurati kratkotrajan odmor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prilagođavanje teksta (uvećanje i pojačanje tiska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sticanja u tekstu (uokviravanje, podcrtavanje)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, raščlanjivanje sadržaja na manje cjelin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ZAKLJUČAK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Svaki učenik je poseban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Uspjeh ovisi o puno čimbenika, posebice o odnosu prema školskim obvezam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Djeca s istom teškoćom ne moraju imati iste potrebe u nastav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Ocjenjuje se trud!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df2f5"/>
            </a:gs>
            <a:gs pos="100000">
              <a:srgbClr val="f2b2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HVALA NA PAŽNJI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2" name="Picture 2" descr="tweet picture"/>
          <p:cNvPicPr/>
          <p:nvPr/>
        </p:nvPicPr>
        <p:blipFill>
          <a:blip r:embed="rId1"/>
          <a:stretch/>
        </p:blipFill>
        <p:spPr>
          <a:xfrm>
            <a:off x="1692360" y="2060640"/>
            <a:ext cx="604836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NAJČEŠĆE TEŠKOĆE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0" y="1719000"/>
            <a:ext cx="905976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eškoće čitanja i pisanja (disleksija i disgrafija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eškoće pažnje i koncentracij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Intelektualne teškoć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Emocionalne teškoć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2" name="Picture 9" descr="Slikovni rezultat za kids"/>
          <p:cNvPicPr/>
          <p:nvPr/>
        </p:nvPicPr>
        <p:blipFill>
          <a:blip r:embed="rId1"/>
          <a:stretch/>
        </p:blipFill>
        <p:spPr>
          <a:xfrm>
            <a:off x="3203640" y="3068640"/>
            <a:ext cx="512136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ORIJENTACIJSKA LISTA TEŠKOĆA (NN 24/15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Skupine vrsta teškoća su: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1. Oštećenja vid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2. Oštećenja sluh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3. Oštećenja jezično-govorne-glasovne komunikacije i specifične teškoće u učenju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4. Oštećenja organa i organskih sustav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5. Intelektualne teškoće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6. Poremećaji u ponašanju i oštećenja mentalnog zdravlj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7. Postojanje više vrsta teškoća u psihofizičkom razvoju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UČENICI S TUR SE ŠKOLUJU PO RJEŠENJU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Redoviti program uz individualizirane postupke (čl. 5.)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li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Redoviti program uz prilagodbu sadržaja i individualizirane postupke (čl. 6.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(navedeno se odnosi na REDOVITE PROGRAME!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Pravilnik o osnovnoškolskom i srednjoškolskom odgoju i obrazovanju učenika s teškoćama u razvoju (NN 24/15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TEŠKOĆE U UČENJU I INFORMATIK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Proces (slijed) nastavnog sata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Održavanje pažnj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Posvećenost detaljima (koraci koji se moraju slijediti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Razumijevanje gradiva (umjesto „štrebanja”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Učenje koraka napamet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Snalaženje na ekranu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Korištenje oprem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UVIJEK PROVJERAVATI I PO POTREBI VRATITI NA KORAK KOJI NIJE ODRAĐEN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IZRADA IOOP-A: KAKO I ZAŠTO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OOP – individualizirani odgojno – obrazovni program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SPECIFIČAN za potrebe djeteta!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e možemo pretpostaviti da isti odgovara svakom djetetu s teškoća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zrađuje ga nastavnik/učitelj uz pomoć stručnog surad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astavnik/učitelj poznaje svoj nastavni predmet, proces učenja i očekivane ishode, a stručni suradnik poznaje potrebe uče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Zamišljen kao program koji djetetu omogućuje praćenje nastave s obzirom na svoje potrebe, a nastavniku olakšava pripremu nastave vrednovanj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KAKO PISATI IOOP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628560" y="1412640"/>
            <a:ext cx="788688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SPECIFIČNE METODE RADA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astavnik/učitelj dobije od stručnog surad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omogućiti više vremena za aktivnost, podijeliti zadatke u više manjih cjelina, usmjeravati pažnju, izbjegavati prepisivanje, preferirati usmenu provjeru znanja…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INICIJALNA PROCJENA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: Kako nastavnik vidi učenika u odnosu na predmet?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ff33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ff3300"/>
                </a:solidFill>
                <a:latin typeface="Gill Sans MT"/>
              </a:rPr>
              <a:t>TEMELJITI NA JAKIM STRANAMA! 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 motiviran je za sve sadržaje, primjenjuje sva naučena pravila, uspješno rješava različite vrste zadataka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SADRŽAJ EDUKACIJE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tema koja se obrađuj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rad s ulaznim vrijednosti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CILJEVI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koja znanja će usvojiti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samostalno ili uz pomoć učitelja/učiteljice rješavati jednostavne probleme koji se koriste ulaznim i izlaznim vrijednosti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hr-H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539640" y="692280"/>
            <a:ext cx="83534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AKTIVNOSTI ZA UČENIKA/UČENICU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npr. učenik uz pomoć slaže jednostavan program služeći se naredbama ulaza, pridruživanja i izlaza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STRATEGIJE PODRŠKE 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(prilagodba metoda, sredstava, oblika, postupaka, zahtjeva): koje metode će nastavnik primijeniti kako bi obradio temu u skladu sa specifičnim potrebama tog učenika/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np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osigurati kratkotrajan odmo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Gill Sans MT"/>
              </a:rPr>
              <a:t>prilagođavanje teksta (uvećanje i pojačanje tisk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Gill Sans MT"/>
              </a:rPr>
              <a:t>isticanja u tekstu (uokviravanje, podcrtavanje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raščlanjivanje sadržaja na manje cjelin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PRIMJER ZA IOOP (5.R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1442520" y="1413000"/>
            <a:ext cx="70167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Opis teškoća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čenikove teškoće proizlaze iz potreba povezanih sa specifičnim teškoćama čitanja i pisanja te teško održivom pažnjom i koncentracijom.  Učenik ima pozitivan odnos prema šk. obvezama. Pamti slikovite primjere, usporedbe, slike itd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pecifične metode rada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čeniku je potrebno individualno pristupiti. Jasno mu dati do znanja što se očekuje i provjeriti razumije li. Izbjegavati čitanje nepoznatog teksta. Prepisivanje svesti na minimum. Potrebno mu je češće usmjeravati pažnju na zadanu aktivnost. Omogućiti više vremena za zadatak. Složene zadatke potrebno je podijeliti u više manjih. Omogućiti mu kratke predahe više puta tijekom nastave. Poticati ga pohvalom i istaknuti ga u aktivnostima u kojima je uspješan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16:58:23Z</dcterms:created>
  <dc:creator>dsp</dc:creator>
  <dc:description/>
  <dc:language>en-US</dc:language>
  <cp:lastModifiedBy>Marta Klobučar</cp:lastModifiedBy>
  <dcterms:modified xsi:type="dcterms:W3CDTF">2019-12-16T11:14:00Z</dcterms:modified>
  <cp:revision>7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