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99F39F-5444-4054-9A87-E7DB96AA9E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A44704-9DA1-430C-9A86-01EF2480A792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BAA5-F755-4010-AB2A-4B7DE2CA7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C379-DEB1-44C3-B974-369115FD4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2DB4B7-761E-43F8-A9E6-975427D34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9ABDE4-8097-406A-9CEF-BA348D7E6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75EC09-948D-4FA8-B920-E3F9773DA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6A3FC2-7FCF-49AB-B08D-F0527D3C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0DEFBF-E22D-4D44-95AC-090672C0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CA45E6-D487-41D4-A595-7DEF8C96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14038F-4C33-4D0A-BE6A-2DFC7D8CF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CCAFAD-FD96-4CAA-BE6E-D5CAF0BA1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29E960-2131-4C66-BABC-0B2526DB7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AADE0D-BE87-4823-8ADD-94C93828B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C951-F35F-44E3-8846-6AE4ABB98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4DEC6E-83A5-48A0-9058-98493E934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A235CB-AFCE-44FC-81A7-9D7686964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F668F1-E192-456C-BB54-266A54F1D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7E813A-71AF-44C6-8593-688AFE792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1AA4E4-0710-4243-BEE6-A63212A8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BBA489-9BB9-406C-AA05-C379115E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9301BE-4ADD-4355-9905-E558657D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B0E6FF-52FC-4257-AABA-BCB573A9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0F4C50-6814-45C3-9353-87152523D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35BE46-5922-449C-ADBB-9D320BD3B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BEAF-800A-4B0E-9FBD-12B6C9785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179CD5-49DD-47F0-81A2-647D7B3E9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033630-B759-4D2D-A5FB-9FD2AAB12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8F0406-09BE-401F-AD8A-1FCB31CB6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386256-126A-4A6F-9E98-9C83683DF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DED8BB-1C1E-46E6-8AD1-A88FF7F46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541B3E-B3B5-477A-8EE2-C03D3F9E8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CC8D0F-AB9B-46A9-AAB5-47B4C3C08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3787B5-EF02-4C5D-92BF-BFF79DA9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B225E8-84BD-4422-AFBB-AD29F192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A83026-7D15-4D82-AFEB-EB55B1C3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902B5-73ED-492F-BE29-4045FAFB5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2D38B4-55A7-47AE-ACDC-5CBFA150A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615B13-10A7-4082-83AA-686F970F1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F13B87-F7AC-4C62-B8E7-7505F0A29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E18FE-AE0A-4D2F-A1DD-80035534B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E01EA-AA5C-4D60-820E-9167B1CA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FEDFF-C63A-43B6-A1A0-A8021E274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A4111-1E54-4111-A373-AE2CCD034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649E0-6C10-4354-A5F3-97CFCBED5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2A772-ED26-4F82-97EF-2100BE63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6C0C-6CC7-4C7D-8862-25FA9F441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483AA-BDEF-4344-86EB-FEA0C3F8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4D13F-0518-4AEF-82E5-F11880E0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720FE-3E0D-4908-A50B-81D04EB14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7C984-D0F7-4065-859C-D12E2E674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93E70-8226-432A-ACEA-D8A81D3A0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92F04-D113-458A-80F3-85CD81F96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69874-CE85-456D-A86B-9E11D871D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C0F2C-6981-4337-A9F3-D4FDEC55F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A3451-AAA3-486C-9A93-970DA3497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028CE-C8CC-453B-A953-234831BEE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B40C-AD5D-449F-9692-B15A42BBF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94064-87B5-429A-A8C7-67D67F8FC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095AD-0F58-4FF1-B61C-9E4D121F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800C4-226D-4BBD-83D3-9E720853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F9DF6-6667-4AA9-BF5B-F434C9B9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933BD-4801-4BA4-98F9-1716DB644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A714F-B8EC-40D6-A01F-F0BC68418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D0F9F-C44E-4951-8D26-8E75FDC75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67671-C5AA-4864-A4C7-E10388654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F2E5F-3FE3-4D5A-963A-0D5A41651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E4118-33F2-4619-A3FF-BAA51C87C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EB5E-61A7-404D-9880-E16607F74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E92D6-6002-4BA3-83F2-D0D3FAB8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B6602-155C-45D0-9554-C671E0068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3E9EC-E68E-4D9B-B019-E8FA78693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B055C-A563-46A0-BFF2-75621DC4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CAB2E-3637-4155-9D16-C86B0C38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0874B-0D2C-4C37-BDED-059B5E49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15284-B430-4A63-9AC0-1C4BA8CF1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5B69D-F8AC-43CF-9F4A-099136AF8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F1765-512B-45D7-ADF5-7A441B553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8F6E8-7EF7-455D-BAEE-09CDD89C2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5DB2-0BE0-460D-9713-63ACAC839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FD7B8-2B53-43C5-B46B-F93241A95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3B00B-D12E-48A3-A669-849B787E4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1E2FE-7256-4A05-B2FC-E1C56FAAF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07A35-9AC1-4A1B-9394-811A03E23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AB1BC-3B5B-44D7-8BA5-1BFE1005F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6C8FE-0361-4DBA-9A23-6C953EAD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49871-13A0-40AB-A2C2-8D6247D0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01A4B-CD9A-47DD-9865-D37A3351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0A11F-5952-489C-A10D-618076B2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5ED99-8EF3-4934-83A5-513177412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E03B-8F2E-4648-AD23-8A94984FB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D2C43-7656-43B0-BC4F-DD217E001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E3BC4-DA77-4615-BCDD-0B1FA9442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15559-0D00-4FA0-800C-010FA3F5B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ECCE61-CA69-4417-884A-34E103E02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34B819-7046-4EBD-A42E-A44EB7AE9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09702-DE78-45D0-91D8-B130232D6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E6E37-784C-4F5A-9493-3B8B1740E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09D0A7-E287-447D-A2C6-C61660E9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7454EA-B56F-4441-A89B-22A1C153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66FA20-E8AE-4BB9-980D-90799380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3708-1E46-47E4-857F-F3648049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6313F-9285-4F0A-A161-A34B9B5FF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35461-AC16-407B-83E2-DB7026A9F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2CA19-5C10-4B2E-AFC1-CBD47FF26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F6812-5EEA-40C4-94FF-AAC3D2877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94025-A11E-4361-95C5-DD23FC3C3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6C8B1-F622-4D2A-A3CF-1401ED30F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E8282-818A-449F-97C3-87E32AF12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8AFD4-764A-4B3B-BE8E-87A9B9D68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455F5F-3A6A-48B8-A911-AD4B289EC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1266DC-B866-4286-B554-73A8629B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1960-0733-4959-B3B3-87D629FD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9CDBD4-B705-4E13-9033-5516B396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208E10-8E96-4B94-932E-97B820FE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24216-F31F-49A2-999C-B10933F7C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32B96-FAA8-4857-B1F0-33A83C82D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C6E053-7F88-4AD3-94C4-127DC95F9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0FCFAB-B275-4FB7-BB19-EC943C40D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FBD16E-B1EB-4859-839C-08E7D3A82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790073-5DC3-4B92-8A5E-C01407988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42F546-1CDA-4BE8-83E3-31A969613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3FF805-2CD4-4B42-B66B-0BBFCB81D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688B-BF12-4BA7-9B99-FCF6A4E2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94893F-39D9-459E-8BF1-93D50FE39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535C7C-2C4C-4771-9127-68CC6299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FC1F00-2064-44C4-804D-A3CD59FD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947954-49D7-4B94-BE1B-09F954E5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EC6A8A-4DAF-40B1-80A8-EA93BE3DF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107812-9416-49E1-BA65-BCEA4E8F5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EA7D1B-6702-499E-88C4-F26A3A8C1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673024-B40D-48FB-B527-C625C29DE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0722BF-9A59-4D86-A8EE-78EE0285B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8D4019-5252-4C4D-9DEC-9FC06389B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1A918F-A423-4C2F-8287-67BDFD005B48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2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13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88D129-3369-479A-9C76-1B90666303A8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7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58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Straight Connector 14"/>
          <p:cNvSpPr/>
          <p:nvPr/>
        </p:nvSpPr>
        <p:spPr>
          <a:xfrm>
            <a:off x="6918480" y="798480"/>
            <a:ext cx="0" cy="466092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AAABD2-8174-4721-AEE4-0D439C3AE5AA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Straight Connector 14"/>
          <p:cNvSpPr/>
          <p:nvPr/>
        </p:nvSpPr>
        <p:spPr>
          <a:xfrm>
            <a:off x="2395440" y="3529080"/>
            <a:ext cx="56199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395080" y="328680"/>
            <a:ext cx="30877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434600" y="798480"/>
            <a:ext cx="801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CA6F4C-EA59-4B25-AC85-5CC55157E272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92D98E-9E75-4CBD-AC6A-AC691AB6DBEB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3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Straight Connector 14"/>
          <p:cNvSpPr/>
          <p:nvPr/>
        </p:nvSpPr>
        <p:spPr>
          <a:xfrm>
            <a:off x="1442880" y="3805200"/>
            <a:ext cx="56181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17A795-8874-493B-BC7A-D236D716957D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8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7508E9-C569-4F5F-8D83-BCEDE163C836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2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Straight Connector 35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F1A4DA-44C5-4F74-8F7A-6FC4F53C37A7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7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7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Straight Connector 31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39BB1D-1D91-413A-8427-383E824868DB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1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Straight Connector 16"/>
          <p:cNvSpPr/>
          <p:nvPr/>
        </p:nvSpPr>
        <p:spPr>
          <a:xfrm>
            <a:off x="1441440" y="3205080"/>
            <a:ext cx="242424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153F3E-6133-4A4A-BEA6-D681B54664D5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6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62" name="Group 12"/>
          <p:cNvGrpSpPr/>
          <p:nvPr/>
        </p:nvGrpSpPr>
        <p:grpSpPr>
          <a:xfrm>
            <a:off x="4995720" y="482760"/>
            <a:ext cx="3511800" cy="5148000"/>
            <a:chOff x="4995720" y="482760"/>
            <a:chExt cx="3511800" cy="5148000"/>
          </a:xfrm>
        </p:grpSpPr>
        <p:grpSp>
          <p:nvGrpSpPr>
            <p:cNvPr id="363" name="Rectangle 13"/>
            <p:cNvGrpSpPr/>
            <p:nvPr/>
          </p:nvGrpSpPr>
          <p:grpSpPr>
            <a:xfrm>
              <a:off x="4995720" y="482760"/>
              <a:ext cx="3511800" cy="5148000"/>
              <a:chOff x="4995720" y="482760"/>
              <a:chExt cx="3511800" cy="5148000"/>
            </a:xfrm>
          </p:grpSpPr>
          <p:pic>
            <p:nvPicPr>
              <p:cNvPr id="364" name="Rectangl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4995720" y="482760"/>
                <a:ext cx="3511800" cy="51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5084640" y="495000"/>
                <a:ext cx="3310920" cy="488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366" name="Rectangle 14"/>
            <p:cNvGrpSpPr/>
            <p:nvPr/>
          </p:nvGrpSpPr>
          <p:grpSpPr>
            <a:xfrm>
              <a:off x="5346360" y="771840"/>
              <a:ext cx="2793600" cy="4326840"/>
              <a:chOff x="5346360" y="771840"/>
              <a:chExt cx="2793600" cy="4326840"/>
            </a:xfrm>
          </p:grpSpPr>
          <p:pic>
            <p:nvPicPr>
              <p:cNvPr id="367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5346360" y="771840"/>
                <a:ext cx="2793600" cy="432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5382360" y="808200"/>
                <a:ext cx="2718720" cy="425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369" name="Straight Connector 30"/>
          <p:cNvSpPr/>
          <p:nvPr/>
        </p:nvSpPr>
        <p:spPr>
          <a:xfrm>
            <a:off x="1441440" y="3143160"/>
            <a:ext cx="324180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1436400" y="5470560"/>
            <a:ext cx="32526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1437840" y="318600"/>
            <a:ext cx="32511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79B498-8763-4110-B9AB-57A458980815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42920" y="692280"/>
            <a:ext cx="3889440" cy="129672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900" spc="-1" strike="noStrike">
                <a:solidFill>
                  <a:srgbClr val="9973ff"/>
                </a:solidFill>
                <a:latin typeface="Gill Sans MT"/>
              </a:rPr>
              <a:t>ŽSV IZ INFORMATIKE I RAČUNALSTVA ZADARSKE ŽUPANIJE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2773440" y="2420640"/>
            <a:ext cx="3743280" cy="2663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RAD S UČENICIMA S TEŠKOĆAM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Gill Sans MT"/>
              </a:rPr>
              <a:t>MARTA KLOBUČAR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Gill Sans MT"/>
              </a:rPr>
              <a:t>MAG.PAED.SOC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10920" y="804600"/>
            <a:ext cx="74041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610920" y="1989000"/>
            <a:ext cx="740412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ADRŽAJ EDUKACIJE: Operativni sustav Windows 10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CILJEVI: Učenik prepoznaje i uz pomoć može opisati neke temeljne programe koji su dio operacijskog sustava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AKTIVNOSTI:  uz pomoć nastavnika prilagođava korisničko sučelje operacijskog sustava svojim potrebam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TRATEGIJE PODRŠKE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smjeravati njegovu pozornost na nastavne sadržaje, provjeravati ga individualno, osigurati kratkotrajan odmor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prilagođavanje teksta (uvećanje i pojačanje tiska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sticanja u tekstu (uokviravanje, podcrtavanje)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, raščlanjivanje sadržaja na manje cjelin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ZAKLJUČAK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Svaki učenik je poseban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Uspjeh ovisi o puno čimbenika, posebice o odnosu prema školskim obvezam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Djeca s istom teškoćom ne moraju imati iste potrebe u nastav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Ocjenjuje se trud!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df2f5"/>
            </a:gs>
            <a:gs pos="100000">
              <a:srgbClr val="f2b2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HVALA NA PAŽNJI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2" name="Picture 2" descr="tweet picture"/>
          <p:cNvPicPr/>
          <p:nvPr/>
        </p:nvPicPr>
        <p:blipFill>
          <a:blip r:embed="rId1"/>
          <a:stretch/>
        </p:blipFill>
        <p:spPr>
          <a:xfrm>
            <a:off x="1692360" y="2060640"/>
            <a:ext cx="604836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NAJČEŠĆE TEŠKOĆE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0" y="1719000"/>
            <a:ext cx="905976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eškoće čitanja i pisanja (disleksija i disgrafija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eškoće pažnje i koncentracij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Intelektualne teškoć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Emocionalne teškoć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2" name="Picture 9" descr="Slikovni rezultat za kids"/>
          <p:cNvPicPr/>
          <p:nvPr/>
        </p:nvPicPr>
        <p:blipFill>
          <a:blip r:embed="rId1"/>
          <a:stretch/>
        </p:blipFill>
        <p:spPr>
          <a:xfrm>
            <a:off x="3203640" y="3068640"/>
            <a:ext cx="512136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ORIJENTACIJSKA LISTA TEŠKOĆA (NN 24/15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Skupine vrsta teškoća su: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1. Oštećenja vid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2. Oštećenja sluh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3. Oštećenja jezično-govorne-glasovne komunikacije i specifične teškoće u učenju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4. Oštećenja organa i organskih sustav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5. Intelektualne teškoće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6. Poremećaji u ponašanju i oštećenja mentalnog zdravlj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7. Postojanje više vrsta teškoća u psihofizičkom razvoju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UČENICI S TUR SE ŠKOLUJU PO RJEŠENJU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Redoviti program uz individualizirane postupke (čl. 5.)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li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Redoviti program uz prilagodbu sadržaja i individualizirane postupke (čl. 6.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(navedeno se odnosi na REDOVITE PROGRAME!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Pravilnik o osnovnoškolskom i srednjoškolskom odgoju i obrazovanju učenika s teškoćama u razvoju (NN 24/15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TEŠKOĆE U UČENJU I INFORMATIK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Proces (slijed) nastavnog sata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Održavanje pažnj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Posvećenost detaljima (koraci koji se moraju slijediti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Razumijevanje gradiva (umjesto „štrebanja”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Učenje koraka napamet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Snalaženje na ekranu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Korištenje oprem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UVIJEK PROVJERAVATI I PO POTREBI VRATITI NA KORAK KOJI NIJE ODRAĐEN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IZRADA IOOP-A: KAKO I ZAŠTO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OOP – individualizirani odgojno – obrazovni program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SPECIFIČAN za potrebe djeteta!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e možemo pretpostaviti da isti odgovara svakom djetetu s teškoća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zrađuje ga nastavnik/učitelj uz pomoć stručnog surad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astavnik/učitelj poznaje svoj nastavni predmet, proces učenja i očekivane ishode, a stručni suradnik poznaje potrebe uče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Zamišljen kao program koji djetetu omogućuje praćenje nastave s obzirom na svoje potrebe, a nastavniku olakšava pripremu nastave vrednovanj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KAKO PISATI IOOP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628560" y="1412640"/>
            <a:ext cx="788688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SPECIFIČNE METODE RADA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astavnik/učitelj dobije od stručnog surad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omogućiti više vremena za aktivnost, podijeliti zadatke u više manjih cjelina, usmjeravati pažnju, izbjegavati prepisivanje, preferirati usmenu provjeru znanja…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INICIJALNA PROCJENA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: Kako nastavnik vidi učenika u odnosu na predmet?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ff33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ff3300"/>
                </a:solidFill>
                <a:latin typeface="Gill Sans MT"/>
              </a:rPr>
              <a:t>TEMELJITI NA JAKIM STRANAMA! 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 motiviran je za sve sadržaje, primjenjuje sva naučena pravila, uspješno rješava različite vrste zadataka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SADRŽAJ EDUKACIJE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tema koja se obrađuj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rad s ulaznim vrijednosti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CILJEVI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koja znanja će usvojiti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samostalno ili uz pomoć učitelja/učiteljice rješavati jednostavne probleme koji se koriste ulaznim i izlaznim vrijednosti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hr-H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539640" y="692280"/>
            <a:ext cx="83534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AKTIVNOSTI ZA UČENIKA/UČENICU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npr. učenik uz pomoć slaže jednostavan program služeći se naredbama ulaza, pridruživanja i izlaza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STRATEGIJE PODRŠKE 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(prilagodba metoda, sredstava, oblika, postupaka, zahtjeva): koje metode će nastavnik primijeniti kako bi obradio temu u skladu sa specifičnim potrebama tog učenika/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np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osigurati kratkotrajan odmo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Gill Sans MT"/>
              </a:rPr>
              <a:t>prilagođavanje teksta (uvećanje i pojačanje tisk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Gill Sans MT"/>
              </a:rPr>
              <a:t>isticanja u tekstu (uokviravanje, podcrtavanje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raščlanjivanje sadržaja na manje cjelin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PRIMJER ZA IOOP (5.R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1442520" y="1413000"/>
            <a:ext cx="70167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Opis teškoća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čenikove teškoće proizlaze iz potreba povezanih sa specifičnim teškoćama čitanja i pisanja te teško održivom pažnjom i koncentracijom.  Učenik ima pozitivan odnos prema šk. obvezama. Pamti slikovite primjere, usporedbe, slike itd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pecifične metode rada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čeniku je potrebno individualno pristupiti. Jasno mu dati do znanja što se očekuje i provjeriti razumije li. Izbjegavati čitanje nepoznatog teksta. Prepisivanje svesti na minimum. Potrebno mu je češće usmjeravati pažnju na zadanu aktivnost. Omogućiti više vremena za zadatak. Složene zadatke potrebno je podijeliti u više manjih. Omogućiti mu kratke predahe više puta tijekom nastave. Poticati ga pohvalom i istaknuti ga u aktivnostima u kojima je uspješan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16:58:23Z</dcterms:created>
  <dc:creator>dsp</dc:creator>
  <dc:description/>
  <dc:language>en-US</dc:language>
  <cp:lastModifiedBy>Marta Klobučar</cp:lastModifiedBy>
  <dcterms:modified xsi:type="dcterms:W3CDTF">2019-12-16T11:14:00Z</dcterms:modified>
  <cp:revision>7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