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9.jpeg" ContentType="image/jpe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dt" idx="3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 type="ftr" idx="3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6"/>
          <p:cNvSpPr>
            <a:spLocks noGrp="1"/>
          </p:cNvSpPr>
          <p:nvPr>
            <p:ph type="sldNum" idx="3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CAA85F8-9E2F-417A-838A-D82EA92CDF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8FFD25-3511-4708-93CF-C046DA133063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9640C-FF17-4685-A49A-C929465B7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42E6D-DBAD-477E-ABCE-06C684D85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53ED45-275F-454D-A0B4-ECCC105B3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D12483-27DC-4509-B333-FB9654E89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6EBA99-68C1-4CB4-AB39-42FF9CC82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8B72CC-61AB-4B5E-A94F-3B550AA9C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0921BB-B8BD-4F32-A85A-45411F2F1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405243-1EC8-4C99-9DFF-FC64483AD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B2E65A-1112-48E9-949B-548710D73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658E3C-D5AC-4FBF-A686-4D9F6FF5B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C70713-7BFF-4934-B953-AFB5D0ADF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22ADF8-EF3C-4FD2-A214-4A0BE5CA6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8C295-7E50-4C51-8396-685C5F075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1908BB-1575-470A-9969-97CC69A92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B6CB00-7383-47EA-AD03-761FEA703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73848C-8883-496E-8113-3124DEDC0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0139A1-10E4-4A51-98B5-36B1D2A27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F4872C-E8F8-4C32-A7CD-E2774D74F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63E06F-F436-4FB2-A998-1F6897B4F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8A8990-ECFD-407B-BD57-2A0F6362C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978309-69CF-4690-AF2A-41DA0B751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AFCD25-206A-4222-8386-AFBD45809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94A032-D910-488A-89A5-7AAD27167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9C92F-789C-4E57-BF90-525513FC4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4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5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F6D04F-75DC-4BC4-9CB9-14BC26516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D0A1CD-F350-429C-913C-B1EA83A50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8BA004-50BA-459F-9228-BF2C5B965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432F51-4A65-4767-B7F5-D2FDDDFCD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6940EF-F396-47D6-B447-E4341D17A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BDAC06-27CF-4804-80BE-CD04A6D65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19F8CA-D0E3-4E4A-B6BA-275CB1286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3F64C8-E9BF-4339-BE1E-A90850AC1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B1BEF8-A00A-451B-A75C-D9A02D27B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DF97B9-F9FF-47D3-8F57-FAD4E6D63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4399F-8B6B-4746-A999-7E4C2C401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2CC792-3707-4432-9A23-17684FC5C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5D6FAD-1285-4D19-942B-E3090BFDC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9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0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31EE3A-8C28-4BE8-A811-1157E0B5B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B431C-CD1D-4AA9-84B5-52609A3C2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A4D11-8CA0-4FF1-A520-77803474F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09F70-3493-49E8-A93D-AA6ADECF2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646E7-8329-41A7-BF71-F6169899F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0CB12-86FD-4500-825D-8E1DD5F9F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166A5-7B83-49A6-8DCA-3C71BA88E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6E16E-8DB9-483E-B228-9F380951C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623DD-CD86-44FD-BA15-AF847C0EE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85D69-AAF0-4648-81E3-7A1653EE0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8C58D-6DED-4D6C-ABD9-9525481B1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7D4BA-7853-465E-BC73-F8A0155BD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39D13-FCB6-4DCE-A46B-E4836233F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1C979B-9E46-4153-B5C2-DDBA026BF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34D1DB-A17C-4E49-88A3-FEAD933BC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EB1252-A345-403F-81C8-A0A73DFEF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857AC7-EA07-450F-832A-1ED07F3FB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A73B41-073A-48DC-B037-78A5CC5DB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2A0DF-BC8E-405F-8281-75D1AEA22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636F91-114A-4CF6-9C1A-280694E8C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04A32B-702B-4E8F-A30F-9D58270E7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40F856-7DCC-482A-881A-56FD72A38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49A217-58CB-4A41-A1DA-A1249BE15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DC2E98-AD57-43D3-BB3D-0A7F010DF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209934-252A-4B38-B67D-361DB214F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711DF2-9AEB-4DCF-A503-C47511F79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83E373-5864-4D87-8E2A-A455E46A5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AD4204-F515-4B0D-88D0-3A7DF56D8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9E4151-570C-4635-835B-306CBEF20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0C091-A979-4C4E-843F-6F18F097A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2EFBB2-EF47-42C1-A909-6D5320484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8B83C9-2546-4625-B267-43473199E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4EBE45-139B-43B5-A6EB-BA8CFF88D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A7D54E-3FBC-41D8-BA61-E1FEF7127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8B2950-1035-42EB-9215-561229D4E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0769BF-A205-4D8B-BE8B-88E5A5077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97D711-AF7C-4675-BE1F-EA8903E38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B71D3B-513F-490C-87DC-B06A7C93B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8B193D-A311-44B2-875E-AD47C71A3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73DE66-755C-485D-BC59-4ACFE3D93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40E0B-5328-4D6E-BAE6-5D93B158E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FC22F7-7419-4FCE-A3A5-8259116BE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26C7F8-B5CC-42AC-817D-20F52DE7A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8F11EC-8D21-4201-B210-8C48086F6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3F0396-D480-498F-B3AB-994A14EE3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9A4048-1894-4744-BE04-509481E76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AEE727-C210-4A58-BC41-334F36BF9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2CADD2-842C-40F6-88CB-62F784B91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7696CD-A59B-4A04-94EE-B0F24BA40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42A5D5-C2D1-48E6-9AB6-EA81C4443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469B45-8662-46DD-8EB7-AF9DC39B5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E15EE-13C5-471F-BE45-C67ECF010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D50314-B332-4757-AF5B-7B3E54C5F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F7A9C8-AA05-492A-BECB-2EDD4347E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2E5D82-3E2E-429B-B051-9D7F115A8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FB124B-A12E-4E9E-A7C3-9DCFB82E4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D0A9EE-03D8-43C4-B8C4-A0EA6D0C1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B5E052-020A-4351-9996-F01182C5E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E61339-3134-4D91-B580-7F104835A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6B636A-85B5-464C-BCB6-EFC4C30DA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F40E2A-55E5-4E05-91BA-6DAF1F067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C29FF2-18B3-4D86-BE3C-D8CFBF4F4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1F867-6545-450F-817E-99FEA3806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B26120-7211-4CAC-8460-4EA3D7289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52715C-320B-436B-884D-A35E47B92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550C2C-7652-45BA-9749-6EFC49552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7F6E4E-0E7A-456E-A49A-58E203AAD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9651DB-7C50-456F-9EAB-E99BE558A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F6C5B1-6970-4291-8B6C-0B668B2A2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4DD86F-B487-44BB-A456-D711755CD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C28F43-89A4-48FA-9D78-7B507DF69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662F3E-35F1-48A7-98C5-84E13CA14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538BDB-AD58-4C1D-9C29-A784EEBD0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BDCC0-52F0-48EA-B9D5-C80BC74FF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98C3C1-549B-4889-AE00-E5192B681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479BE5-D591-4BF8-9D7C-B358823DB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A10A00-3D7B-4A3D-AA96-C0B671599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CD8915-D6B7-4385-9C39-95465C9E9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77D6F0-6995-4500-BA42-F07300906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23DCCB-30C9-40F3-95EC-0ED577CDA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AD0E06-8B77-4B64-A757-189CC43AD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9D5805-0808-4997-8183-336162367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5870C9-0219-46C1-B63E-42286FE68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1E8C31-37B7-4B83-A1E1-5BE06E268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CA500-996D-4AB0-8A12-DD406EF47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3AF269-9016-49B9-BF2F-A91B2DA60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7A1CC0-2415-4C86-9305-502EB260E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A363B8-7C30-4766-ABAC-C4A973CD7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D4965C-FCB4-4F32-8ABB-DDE51319A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C0DDB1-87D8-41F4-A984-9B7FD72F7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B43744-84BE-4D94-8221-31906A584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8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98B243-FD3A-4A75-841E-56A5DFC6C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8F77D1-405A-4926-B20E-1802D3D84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B9F1C9-AD48-442D-8C2D-8F1AE67F7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104843-C0C9-4E1C-8404-395EDCE38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2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A6FCE04-175A-4710-AEB9-B67CD90190A2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12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413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4" name="Straight Connector 32"/>
          <p:cNvSpPr/>
          <p:nvPr/>
        </p:nvSpPr>
        <p:spPr>
          <a:xfrm>
            <a:off x="1442880" y="1847880"/>
            <a:ext cx="657252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dt" idx="28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ftr" idx="29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 type="sldNum" idx="30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97B6BCB-0B49-42E2-A399-4B6532EC2032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57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458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9" name="Straight Connector 14"/>
          <p:cNvSpPr/>
          <p:nvPr/>
        </p:nvSpPr>
        <p:spPr>
          <a:xfrm>
            <a:off x="6918480" y="798480"/>
            <a:ext cx="0" cy="466092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 type="dt" idx="31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 type="ftr" idx="32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 type="sldNum" idx="33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C61C526-DF24-429E-84FB-2EF8E9DE4266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5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46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Straight Connector 14"/>
          <p:cNvSpPr/>
          <p:nvPr/>
        </p:nvSpPr>
        <p:spPr>
          <a:xfrm>
            <a:off x="2395440" y="3529080"/>
            <a:ext cx="561996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395080" y="328680"/>
            <a:ext cx="30877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434600" y="798480"/>
            <a:ext cx="80172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B197D18-6013-41AF-86E9-C2B9F5435FAF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90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91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Straight Connector 32"/>
          <p:cNvSpPr/>
          <p:nvPr/>
        </p:nvSpPr>
        <p:spPr>
          <a:xfrm>
            <a:off x="1442880" y="1847880"/>
            <a:ext cx="657252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dt" idx="7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ftr" idx="8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sldNum" idx="9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001B0E-DC40-48E6-B5C6-23CF182D19B6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35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136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Straight Connector 14"/>
          <p:cNvSpPr/>
          <p:nvPr/>
        </p:nvSpPr>
        <p:spPr>
          <a:xfrm>
            <a:off x="1442880" y="3805200"/>
            <a:ext cx="561816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10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11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sldNum" idx="12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E5556EF-9949-4304-9538-F0A996F4D465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80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181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2" name="Straight Connector 32"/>
          <p:cNvSpPr/>
          <p:nvPr/>
        </p:nvSpPr>
        <p:spPr>
          <a:xfrm>
            <a:off x="1442880" y="1847880"/>
            <a:ext cx="657252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5AC569-19AB-490E-8DE4-E57677A1EFC1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25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226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Straight Connector 35"/>
          <p:cNvSpPr/>
          <p:nvPr/>
        </p:nvSpPr>
        <p:spPr>
          <a:xfrm>
            <a:off x="1442880" y="1847880"/>
            <a:ext cx="657252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dt" idx="16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 type="ftr" idx="17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 type="sldNum" idx="18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9BD79B3-BEC0-48BF-AE93-3FEC7FEAB556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70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271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2" name="Straight Connector 31"/>
          <p:cNvSpPr/>
          <p:nvPr/>
        </p:nvSpPr>
        <p:spPr>
          <a:xfrm>
            <a:off x="1442880" y="1847880"/>
            <a:ext cx="657252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19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ftr" idx="20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sldNum" idx="21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378693-0B7C-4A8C-8E05-46EEDDF5DE40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15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316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Straight Connector 16"/>
          <p:cNvSpPr/>
          <p:nvPr/>
        </p:nvSpPr>
        <p:spPr>
          <a:xfrm>
            <a:off x="1441440" y="3205080"/>
            <a:ext cx="242424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 type="dt" idx="22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 type="ftr" idx="23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 type="sldNum" idx="24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7FA119-2973-44A1-8190-1AE79493041D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60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361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362" name="Group 12"/>
          <p:cNvGrpSpPr/>
          <p:nvPr/>
        </p:nvGrpSpPr>
        <p:grpSpPr>
          <a:xfrm>
            <a:off x="4995720" y="482760"/>
            <a:ext cx="3511800" cy="5148000"/>
            <a:chOff x="4995720" y="482760"/>
            <a:chExt cx="3511800" cy="5148000"/>
          </a:xfrm>
        </p:grpSpPr>
        <p:grpSp>
          <p:nvGrpSpPr>
            <p:cNvPr id="363" name="Rectangle 13"/>
            <p:cNvGrpSpPr/>
            <p:nvPr/>
          </p:nvGrpSpPr>
          <p:grpSpPr>
            <a:xfrm>
              <a:off x="4995720" y="482760"/>
              <a:ext cx="3511800" cy="5148000"/>
              <a:chOff x="4995720" y="482760"/>
              <a:chExt cx="3511800" cy="5148000"/>
            </a:xfrm>
          </p:grpSpPr>
          <p:pic>
            <p:nvPicPr>
              <p:cNvPr id="364" name="Rectangle 13" descr=""/>
              <p:cNvPicPr/>
              <p:nvPr/>
            </p:nvPicPr>
            <p:blipFill>
              <a:blip r:embed="rId4"/>
              <a:stretch/>
            </p:blipFill>
            <p:spPr>
              <a:xfrm>
                <a:off x="4995720" y="482760"/>
                <a:ext cx="3511800" cy="51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5" name=""/>
              <p:cNvSpPr/>
              <p:nvPr/>
            </p:nvSpPr>
            <p:spPr>
              <a:xfrm>
                <a:off x="5084640" y="495000"/>
                <a:ext cx="3310920" cy="4885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  <p:grpSp>
          <p:nvGrpSpPr>
            <p:cNvPr id="366" name="Rectangle 14"/>
            <p:cNvGrpSpPr/>
            <p:nvPr/>
          </p:nvGrpSpPr>
          <p:grpSpPr>
            <a:xfrm>
              <a:off x="5346360" y="771840"/>
              <a:ext cx="2793600" cy="4326840"/>
              <a:chOff x="5346360" y="771840"/>
              <a:chExt cx="2793600" cy="4326840"/>
            </a:xfrm>
          </p:grpSpPr>
          <p:pic>
            <p:nvPicPr>
              <p:cNvPr id="367" name="Rectangle 14" descr=""/>
              <p:cNvPicPr/>
              <p:nvPr/>
            </p:nvPicPr>
            <p:blipFill>
              <a:blip r:embed="rId5"/>
              <a:stretch/>
            </p:blipFill>
            <p:spPr>
              <a:xfrm>
                <a:off x="5346360" y="771840"/>
                <a:ext cx="2793600" cy="4326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8" name=""/>
              <p:cNvSpPr/>
              <p:nvPr/>
            </p:nvSpPr>
            <p:spPr>
              <a:xfrm>
                <a:off x="5382360" y="808200"/>
                <a:ext cx="2718720" cy="4250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</p:grpSp>
      <p:sp>
        <p:nvSpPr>
          <p:cNvPr id="369" name="Straight Connector 30"/>
          <p:cNvSpPr/>
          <p:nvPr/>
        </p:nvSpPr>
        <p:spPr>
          <a:xfrm>
            <a:off x="1441440" y="3143160"/>
            <a:ext cx="324180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dt" idx="25"/>
          </p:nvPr>
        </p:nvSpPr>
        <p:spPr>
          <a:xfrm>
            <a:off x="1436400" y="5470560"/>
            <a:ext cx="325260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ftr" idx="26"/>
          </p:nvPr>
        </p:nvSpPr>
        <p:spPr>
          <a:xfrm>
            <a:off x="1437840" y="318600"/>
            <a:ext cx="32511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sldNum" idx="27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22B08C0-CABB-4A8D-9EF4-D3532FF3E140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042920" y="692280"/>
            <a:ext cx="3889440" cy="1296720"/>
          </a:xfrm>
          <a:prstGeom prst="rect">
            <a:avLst/>
          </a:prstGeom>
          <a:noFill/>
          <a:ln w="0">
            <a:noFill/>
          </a:ln>
        </p:spPr>
        <p:txBody>
          <a:bodyPr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900" spc="-1" strike="noStrike">
                <a:solidFill>
                  <a:srgbClr val="9973ff"/>
                </a:solidFill>
                <a:latin typeface="Gill Sans MT"/>
              </a:rPr>
              <a:t>ŽSV IZ INFORMATIKE I RAČUNALSTVA ZADARSKE ŽUPANIJE</a:t>
            </a: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subTitle"/>
          </p:nvPr>
        </p:nvSpPr>
        <p:spPr>
          <a:xfrm>
            <a:off x="2773440" y="2420640"/>
            <a:ext cx="3743280" cy="2663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Gill Sans MT"/>
              </a:rPr>
              <a:t>RAD S UČENICIMA S TEŠKOĆAMA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Gill Sans MT"/>
              </a:rPr>
              <a:t>MARTA KLOBUČAR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Gill Sans MT"/>
              </a:rPr>
              <a:t>MAG.PAED.SOC.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10920" y="804600"/>
            <a:ext cx="74041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8" name=""/>
          <p:cNvSpPr txBox="1"/>
          <p:nvPr/>
        </p:nvSpPr>
        <p:spPr>
          <a:xfrm>
            <a:off x="610920" y="1989000"/>
            <a:ext cx="7404120" cy="450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SADRŽAJ EDUKACIJE: Operativni sustav Windows 10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CILJEVI: Učenik prepoznaje i uz pomoć može opisati neke temeljne programe koji su dio operacijskog sustava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AKTIVNOSTI:  uz pomoć nastavnika prilagođava korisničko sučelje operacijskog sustava svojim potrebama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STRATEGIJE PODRŠKE: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usmjeravati njegovu pozornost na nastavne sadržaje, provjeravati ga individualno, osigurati kratkotrajan odmor,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prilagođavanje teksta (uvećanje i pojačanje tiska</a:t>
            </a: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isticanja u tekstu (uokviravanje, podcrtavanje)</a:t>
            </a: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, raščlanjivanje sadržaja na manje cjeline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ZAKLJUČAK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Svaki učenik je poseban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Uspjeh ovisi o puno čimbenika, posebice o odnosu prema školskim obvezama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Djeca s istom teškoćom ne moraju imati iste potrebe u nastavi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Ocjenjuje se trud!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df2f5"/>
            </a:gs>
            <a:gs pos="100000">
              <a:srgbClr val="f2b2c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HVALA NA PAŽNJI!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32" name="Picture 2" descr="tweet picture"/>
          <p:cNvPicPr/>
          <p:nvPr/>
        </p:nvPicPr>
        <p:blipFill>
          <a:blip r:embed="rId1"/>
          <a:stretch/>
        </p:blipFill>
        <p:spPr>
          <a:xfrm>
            <a:off x="1692360" y="2060640"/>
            <a:ext cx="6048360" cy="39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NAJČEŠĆE TEŠKOĆE: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1" name=""/>
          <p:cNvSpPr txBox="1"/>
          <p:nvPr/>
        </p:nvSpPr>
        <p:spPr>
          <a:xfrm>
            <a:off x="0" y="1719000"/>
            <a:ext cx="9059760" cy="51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Teškoće čitanja i pisanja (disleksija i disgrafija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Teškoće pažnje i koncentracij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Intelektualne teškoć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Emocionalne teškoć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12" name="Picture 9" descr="Slikovni rezultat za kids"/>
          <p:cNvPicPr/>
          <p:nvPr/>
        </p:nvPicPr>
        <p:blipFill>
          <a:blip r:embed="rId1"/>
          <a:stretch/>
        </p:blipFill>
        <p:spPr>
          <a:xfrm>
            <a:off x="3203640" y="3068640"/>
            <a:ext cx="5121360" cy="32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ORIJENTACIJSKA LISTA TEŠKOĆA (NN 24/15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14560" indent="-21456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900" spc="-1" strike="noStrike">
                <a:solidFill>
                  <a:srgbClr val="000000"/>
                </a:solidFill>
                <a:latin typeface="Gill Sans MT"/>
              </a:rPr>
              <a:t>Skupine vrsta teškoća su: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214560" indent="-214560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br>
              <a:rPr sz="1900"/>
            </a:br>
            <a:r>
              <a:rPr b="0" lang="hr-HR" sz="1900" spc="-1" strike="noStrike">
                <a:solidFill>
                  <a:srgbClr val="000000"/>
                </a:solidFill>
                <a:latin typeface="Gill Sans MT"/>
              </a:rPr>
              <a:t>1. Oštećenja vida</a:t>
            </a:r>
            <a:br>
              <a:rPr sz="1900"/>
            </a:br>
            <a:r>
              <a:rPr b="0" lang="hr-HR" sz="1900" spc="-1" strike="noStrike">
                <a:solidFill>
                  <a:srgbClr val="000000"/>
                </a:solidFill>
                <a:latin typeface="Gill Sans MT"/>
              </a:rPr>
              <a:t>2. Oštećenja sluha</a:t>
            </a:r>
            <a:br>
              <a:rPr sz="1900"/>
            </a:br>
            <a:r>
              <a:rPr b="0" lang="hr-HR" sz="1900" spc="-1" strike="noStrike">
                <a:solidFill>
                  <a:srgbClr val="000000"/>
                </a:solidFill>
                <a:latin typeface="Gill Sans MT"/>
              </a:rPr>
              <a:t>3. Oštećenja jezično-govorne-glasovne komunikacije i specifične teškoće u učenju</a:t>
            </a:r>
            <a:br>
              <a:rPr sz="1900"/>
            </a:br>
            <a:r>
              <a:rPr b="0" lang="hr-HR" sz="1900" spc="-1" strike="noStrike">
                <a:solidFill>
                  <a:srgbClr val="000000"/>
                </a:solidFill>
                <a:latin typeface="Gill Sans MT"/>
              </a:rPr>
              <a:t>4. Oštećenja organa i organskih sustava</a:t>
            </a:r>
            <a:br>
              <a:rPr sz="1900"/>
            </a:br>
            <a:r>
              <a:rPr b="0" lang="hr-HR" sz="1900" spc="-1" strike="noStrike">
                <a:solidFill>
                  <a:srgbClr val="000000"/>
                </a:solidFill>
                <a:latin typeface="Gill Sans MT"/>
              </a:rPr>
              <a:t>5. Intelektualne teškoće</a:t>
            </a:r>
            <a:br>
              <a:rPr sz="1900"/>
            </a:br>
            <a:r>
              <a:rPr b="0" lang="hr-HR" sz="1900" spc="-1" strike="noStrike">
                <a:solidFill>
                  <a:srgbClr val="000000"/>
                </a:solidFill>
                <a:latin typeface="Gill Sans MT"/>
              </a:rPr>
              <a:t>6. Poremećaji u ponašanju i oštećenja mentalnog zdravlja</a:t>
            </a:r>
            <a:br>
              <a:rPr sz="1900"/>
            </a:br>
            <a:r>
              <a:rPr b="0" lang="hr-HR" sz="1900" spc="-1" strike="noStrike">
                <a:solidFill>
                  <a:srgbClr val="000000"/>
                </a:solidFill>
                <a:latin typeface="Gill Sans MT"/>
              </a:rPr>
              <a:t>7. Postojanje više vrsta teškoća u psihofizičkom razvoju.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UČENICI S TUR SE ŠKOLUJU PO RJEŠENJU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6" name=""/>
          <p:cNvSpPr txBox="1"/>
          <p:nvPr/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hr-HR" sz="1700" spc="-1" strike="noStrike">
                <a:solidFill>
                  <a:srgbClr val="000000"/>
                </a:solidFill>
                <a:latin typeface="Gill Sans MT"/>
              </a:rPr>
              <a:t>Redoviti program uz individualizirane postupke (čl. 5.) 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ili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hr-HR" sz="1700" spc="-1" strike="noStrike">
                <a:solidFill>
                  <a:srgbClr val="000000"/>
                </a:solidFill>
                <a:latin typeface="Gill Sans MT"/>
              </a:rPr>
              <a:t>Redoviti program uz prilagodbu sadržaja i individualizirane postupke (čl. 6.)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(navedeno se odnosi na REDOVITE PROGRAME!)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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Pravilnik o osnovnoškolskom i srednjoškolskom odgoju i obrazovanju učenika s teškoćama u razvoju (NN 24/15)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TEŠKOĆE U UČENJU I INFORMATIKA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Gill Sans MT"/>
              </a:rPr>
              <a:t>Proces (slijed) nastavnog sata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Gill Sans MT"/>
              </a:rPr>
              <a:t>Održavanje pažnje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Gill Sans MT"/>
              </a:rPr>
              <a:t>Posvećenost detaljima (koraci koji se moraju slijediti)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Gill Sans MT"/>
              </a:rPr>
              <a:t>Razumijevanje gradiva (umjesto „štrebanja”)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Gill Sans MT"/>
              </a:rPr>
              <a:t>Učenje koraka napamet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Gill Sans MT"/>
              </a:rPr>
              <a:t>Snalaženje na ekranu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Gill Sans MT"/>
              </a:rPr>
              <a:t>Korištenje opreme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Gill Sans MT"/>
              </a:rPr>
              <a:t>UVIJEK PROVJERAVATI I PO POTREBI VRATITI NA KORAK KOJI NIJE ODRAĐEN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IZRADA IOOP-A: KAKO I ZAŠTO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17080" indent="-21708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IOOP – individualizirani odgojno – obrazovni program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17080" indent="-21708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SPECIFIČAN za potrebe djeteta! 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17080" indent="-21708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ne možemo pretpostaviti da isti odgovara svakom djetetu s teškoćama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17080" indent="-21708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Izrađuje ga nastavnik/učitelj uz pomoć stručnog suradnika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17080" indent="-21708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Nastavnik/učitelj poznaje svoj nastavni predmet, proces učenja i očekivane ishode, a stručni suradnik poznaje potrebe učenika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17080" indent="-21708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Zamišljen kao program koji djetetu omogućuje praćenje nastave s obzirom na svoje potrebe, a nastavniku olakšava pripremu nastave vrednovanje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KAKO PISATI IOOP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2" name=""/>
          <p:cNvSpPr txBox="1"/>
          <p:nvPr/>
        </p:nvSpPr>
        <p:spPr>
          <a:xfrm>
            <a:off x="628560" y="1412640"/>
            <a:ext cx="7886880" cy="476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1400" indent="-2214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hr-HR" sz="1700" spc="-1" strike="noStrike">
                <a:solidFill>
                  <a:srgbClr val="000000"/>
                </a:solidFill>
                <a:latin typeface="Gill Sans MT"/>
              </a:rPr>
              <a:t>SPECIFIČNE METODE RADA: </a:t>
            </a: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nastavnik/učitelj dobije od stručnog suradnika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1400" indent="-2214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hr-HR" sz="1700" spc="-1" strike="noStrike">
                <a:solidFill>
                  <a:srgbClr val="009900"/>
                </a:solidFill>
                <a:latin typeface="Gill Sans MT"/>
              </a:rPr>
              <a:t>npr. omogućiti više vremena za aktivnost, podijeliti zadatke u više manjih cjelina, usmjeravati pažnju, izbjegavati prepisivanje, preferirati usmenu provjeru znanja…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1400" indent="-2214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hr-HR" sz="1700" spc="-1" strike="noStrike">
                <a:solidFill>
                  <a:srgbClr val="000000"/>
                </a:solidFill>
                <a:latin typeface="Gill Sans MT"/>
              </a:rPr>
              <a:t>INICIJALNA PROCJENA</a:t>
            </a: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: Kako nastavnik vidi učenika u odnosu na predmet? 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1400" indent="-2214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ff3300"/>
                </a:solidFill>
                <a:latin typeface="Gill Sans MT"/>
              </a:rPr>
              <a:t> </a:t>
            </a:r>
            <a:r>
              <a:rPr b="0" lang="hr-HR" sz="1700" spc="-1" strike="noStrike">
                <a:solidFill>
                  <a:srgbClr val="ff3300"/>
                </a:solidFill>
                <a:latin typeface="Gill Sans MT"/>
              </a:rPr>
              <a:t>TEMELJITI NA JAKIM STRANAMA!  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1400" indent="-2214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9900"/>
                </a:solidFill>
                <a:latin typeface="Gill Sans MT"/>
              </a:rPr>
              <a:t> </a:t>
            </a:r>
            <a:r>
              <a:rPr b="0" lang="hr-HR" sz="1700" spc="-1" strike="noStrike">
                <a:solidFill>
                  <a:srgbClr val="009900"/>
                </a:solidFill>
                <a:latin typeface="Gill Sans MT"/>
              </a:rPr>
              <a:t>npr.  motiviran je za sve sadržaje, primjenjuje sva naučena pravila, uspješno rješava različite vrste zadataka 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1400" indent="-2214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hr-HR" sz="1700" spc="-1" strike="noStrike">
                <a:solidFill>
                  <a:srgbClr val="000000"/>
                </a:solidFill>
                <a:latin typeface="Gill Sans MT"/>
              </a:rPr>
              <a:t>SADRŽAJ EDUKACIJE: </a:t>
            </a: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tema koja se obrađuje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1400" indent="-2214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hr-HR" sz="1700" spc="-1" strike="noStrike">
                <a:solidFill>
                  <a:srgbClr val="009900"/>
                </a:solidFill>
                <a:latin typeface="Gill Sans MT"/>
              </a:rPr>
              <a:t>npr. rad s ulaznim vrijednostima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1400" indent="-2214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hr-HR" sz="1700" spc="-1" strike="noStrike">
                <a:solidFill>
                  <a:srgbClr val="000000"/>
                </a:solidFill>
                <a:latin typeface="Gill Sans MT"/>
              </a:rPr>
              <a:t>CILJEVI: </a:t>
            </a: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koja znanja će usvojiti 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1400" indent="-2214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9900"/>
                </a:solidFill>
                <a:latin typeface="Gill Sans MT"/>
              </a:rPr>
              <a:t>npr. samostalno ili uz pomoć učitelja/učiteljice rješavati jednostavne probleme koji se koriste ulaznim i izlaznim vrijednostima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hr-HR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539640" y="692280"/>
            <a:ext cx="835344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Gill Sans MT"/>
              </a:rPr>
              <a:t>AKTIVNOSTI ZA UČENIKA/UČENICU: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9900"/>
                </a:solidFill>
                <a:latin typeface="Gill Sans MT"/>
              </a:rPr>
              <a:t> </a:t>
            </a:r>
            <a:r>
              <a:rPr b="0" lang="hr-HR" sz="2000" spc="-1" strike="noStrike">
                <a:solidFill>
                  <a:srgbClr val="009900"/>
                </a:solidFill>
                <a:latin typeface="Gill Sans MT"/>
              </a:rPr>
              <a:t>npr. učenik uz pomoć slaže jednostavan program služeći se naredbama ulaza, pridruživanja i izlaza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Gill Sans MT"/>
              </a:rPr>
              <a:t>STRATEGIJE PODRŠKE </a:t>
            </a: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(prilagodba metoda, sredstava, oblika, postupaka, zahtjeva): koje metode će nastavnik primijeniti kako bi obradio temu u skladu sa specifičnim potrebama tog učenika/c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npr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9900"/>
                </a:solidFill>
                <a:latin typeface="Gill Sans MT"/>
              </a:rPr>
              <a:t> </a:t>
            </a:r>
            <a:r>
              <a:rPr b="0" lang="hr-HR" sz="2000" spc="-1" strike="noStrike">
                <a:solidFill>
                  <a:srgbClr val="009900"/>
                </a:solidFill>
                <a:latin typeface="Gill Sans MT"/>
              </a:rPr>
              <a:t>osigurati kratkotrajan odmor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99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9900"/>
                </a:solidFill>
                <a:latin typeface="Gill Sans MT"/>
              </a:rPr>
              <a:t>prilagođavanje teksta (uvećanje i pojačanje tiska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99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9900"/>
                </a:solidFill>
                <a:latin typeface="Gill Sans MT"/>
              </a:rPr>
              <a:t>isticanja u tekstu (uokviravanje, podcrtavanje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9900"/>
                </a:solidFill>
                <a:latin typeface="Gill Sans MT"/>
              </a:rPr>
              <a:t> </a:t>
            </a:r>
            <a:r>
              <a:rPr b="0" lang="hr-HR" sz="2000" spc="-1" strike="noStrike">
                <a:solidFill>
                  <a:srgbClr val="009900"/>
                </a:solidFill>
                <a:latin typeface="Gill Sans MT"/>
              </a:rPr>
              <a:t>raščlanjivanje sadržaja na manje cjelin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PRIMJER ZA IOOP (5.R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1442520" y="1413000"/>
            <a:ext cx="701676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26080" indent="-22608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Opis teškoća: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6080" indent="-22608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Učenikove teškoće proizlaze iz potreba povezanih sa specifičnim teškoćama čitanja i pisanja te teško održivom pažnjom i koncentracijom.  Učenik ima pozitivan odnos prema šk. obvezama. Pamti slikovite primjere, usporedbe, slike itd.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6080" indent="-22608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Specifične metode rada: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6080" indent="-22608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Učeniku je potrebno individualno pristupiti. Jasno mu dati do znanja što se očekuje i provjeriti razumije li. Izbjegavati čitanje nepoznatog teksta. Prepisivanje svesti na minimum. Potrebno mu je češće usmjeravati pažnju na zadanu aktivnost. Omogućiti više vremena za zadatak. Složene zadatke potrebno je podijeliti u više manjih. Omogućiti mu kratke predahe više puta tijekom nastave. Poticati ga pohvalom i istaknuti ga u aktivnostima u kojima je uspješan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3T16:58:23Z</dcterms:created>
  <dc:creator>dsp</dc:creator>
  <dc:description/>
  <dc:language>en-US</dc:language>
  <cp:lastModifiedBy>Marta Klobučar</cp:lastModifiedBy>
  <dcterms:modified xsi:type="dcterms:W3CDTF">2019-12-16T11:14:00Z</dcterms:modified>
  <cp:revision>7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