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D0F69F-9419-474D-8FC1-32808AC2B6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DA8E0A-58FF-49E5-B036-F46D37C1D6DD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084E-3776-44AD-874A-A5A91B3BC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0D6D-F550-4C68-8A12-FF29AE46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CC8C2F-E246-479D-822C-C4C3BBC7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3FC3E-A5C6-49A0-8CF9-5279E60B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A7D8C5-70D5-4C2D-9512-A42DD9E7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06932-8FB3-4182-8CE3-0F0EEF45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24B32-F914-4683-AD7E-8F3B3B3B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8636E-A32B-4F11-8AE9-FD621B60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FD4D7-7D29-4958-A748-4A720F7E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BC357-D63D-46C5-BCFE-7C4BED27D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06476-53B2-4203-8DF1-219853EAC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E64E8-A896-4313-A485-1BAD3F07C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2B31-0B6A-4BEF-8C8F-831D81236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C1932-8B24-4F28-BF0F-E3B500F3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D0D335-28D4-4AAF-A10A-685EF900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1915F4-7BCA-4F7F-B348-1A73A2A0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54DC94-2C61-476E-8C6E-C31DBEAA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631787-0359-4D97-BD25-311C6F3E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C3EEA9-E4F0-4A29-925B-D6E2AF1C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A50C4A-846D-47CA-B579-B6B5DCEA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71440A-E2FF-48EB-AF22-CCA21315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663430-8529-4D24-AEA4-E96D0618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6ABD88-5C54-4DAA-97B9-AFDAA62D2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A063-273D-4A3A-AE1A-88B185EF1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023D84-B3C9-4110-990A-F0592800E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A7A88-98E4-439B-A6AF-F8C401D81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E1A69-19CB-4198-A12F-09463ABE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3A26B-129D-4F2D-86CD-D0A71C18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2149D-A5C1-4773-A843-7E851FB4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E21D1-6FCC-4349-B2F0-ABF94E97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22C02-DA13-4B0E-ADAB-CD20D4F2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ED81D-BE54-4E37-AF5E-6239A834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9DAD1-F18C-4FB2-B95B-F1582D10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A826E-F55D-486D-9E41-43651F41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CA82-3A67-421E-A571-45CC2677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79190-4F69-4384-A999-3C5820BF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B1B97-3FD3-45EB-9BB7-CC637FD05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E9183-DB02-4F5F-A282-86E1F34DE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A0FB-3332-41CC-B9ED-866AB3D2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1F86-81D6-4C35-AF27-BC3E4615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E5A6-D6A8-4A4C-9FB0-B74C41D7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9F68-9204-4B1E-954B-65A5F625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9014-CBAB-4996-8156-335B7405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2A32-F537-4812-981A-EA2B8B54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F047-3425-4C4F-8472-358DADAD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7E94-E264-45FD-AC2D-91D89C0D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4BE0-6123-4E72-9921-FE232157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5131-B92D-4C61-8CAD-A3955ABD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4502-565F-4B8F-B9D8-3D388B4D2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3489-A667-4EFE-8681-B3843BE6C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09494-F4C6-418D-AE19-7D0DF4241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6604F-8143-4E49-A97D-4C86E20D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9478C-B568-4A86-A5D7-F43864B5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2483A-215D-4A90-BF30-9CA276BC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D1B63-D5B3-4E95-8F0A-6C622CD0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5F64-83AD-4CE7-9E85-BB4E8226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18527-4DA5-4603-B448-B5E5F30C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29AFB-7055-430B-8E76-E083E0E9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65800-BF03-4D69-ADFE-C09275EB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FC8C6-9AF0-4456-B97F-5B9A7AD8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79D88-EFB8-4984-9029-7462052C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1468F-8ED9-4732-A5FA-C1CDDED24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C757D-A48E-4AF3-94AC-78CA0455A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13516-3269-49BE-B1F1-1A7F3296D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EA694-ECE3-4194-88BA-596995BF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0D8F5-D302-4BE2-8A93-7E17E01B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97DB-7725-4E3D-AC96-9D7367BE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0D518-1AD4-4E4F-9BEC-CFFBFA15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1A87D-1977-4E8B-978F-8CC883C7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DB7E0-6F35-4FAB-B913-52D50C30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A3E29-47D9-46B3-AD49-4529A9E3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4608D-F9D7-4532-B2AF-B3E29FAC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CED4A-7E29-45AF-A5BB-263B77A0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43450-DD02-4B26-B39C-72C4BC3F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AE629-E02D-4D7E-A384-2A421C4C3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3FED3-E205-4829-A18D-82166C23B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C3651-3E6B-4FF2-95E7-F0B4665E2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41FF-1CB6-4432-B9D1-4CD04E4A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7A636-9210-4A17-8806-1CE05263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FC65D-AB98-4E1F-BC67-970C421D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ECF6E-A347-4E9C-84C2-BEA12C26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A89EB-115E-4445-8D95-D1D9C4F1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BF2B5-EDE6-4228-9101-CAC30FFD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3EC6E-F9A0-4900-AE16-E924A284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9F832-4F41-4888-B7A0-8472EED8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180B3-DCF7-471B-8DC5-62E40821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9F44C-E91D-4051-B19B-90F9BD85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3F0C9-4942-41A5-93EC-6918346AE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5BA3-296D-4729-904A-3CE556BA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F830C-E8F0-4165-BB25-5EB32B945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ABC76-4AD8-466F-AEDD-C2E4145A8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A1343-BC9C-418F-8254-63CC2E3C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109B1-C471-45A4-8E56-7B65E63E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C47AE-B06D-4CBC-8697-704C3AEA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82D34-AC60-436A-BCE3-25DB7E1E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1DFDC-4869-44C9-8B70-AD0C3DC9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9B66B-B5F7-4146-9EB3-92BFF49E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5781B-DD3A-4BA3-9771-CB7D4848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4384E-6CB1-4889-9B5E-15A18D13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E841-E473-4D87-AFD7-DFE352CB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1BAA9-91AC-4629-A67B-9DDC7600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BF8AC-D80B-4E11-A3EB-F9486634A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DD98B-FD9E-4BF4-9762-A50F816BA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A4DFA-9B0D-4A6D-AE6F-8788CFEC9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F4573-EDDE-4920-8598-5F9773D2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4E6D6-29C7-4979-9703-27EE5D10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11DBA-E0A2-4032-AB8E-04A1FD3F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0DE19-77DA-4149-AA66-5F89B4EC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82909-16C2-432E-9CD2-D69843EE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2B28D-D208-449A-80AD-39023582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5BFA-C2DE-491F-B144-53FAE266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C00FB-B1D2-48C3-9107-7ADF3B51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97BE0-536E-4811-A4FC-1840D1BA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92CCA-9CC7-41FF-99CF-6CDF4677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19EA2-8277-4D85-8022-9929DB58B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082A9-99D1-4851-A844-7DCAAE584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6E10A-3E53-45C5-B3A7-14EBB761D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BCFFD-3CCE-4C78-A391-90D7812E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4F9B2-0E8F-4433-8F02-7E5511F9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EDCA6-3A0D-4497-9D82-F8B5A529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CFD35-455D-44D0-8EE1-6667F75D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2763-6268-4F3D-9334-B9A11ED8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3DCA1-CAF7-406A-A213-955BF38E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8B4B7-F600-4AD5-952B-5A6A005E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77A57-85A8-48DA-8C2C-C6DF2646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EB7EA-0D54-4755-BD04-EA904815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2F2FE-8C31-4C37-B956-2FD8787C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07BF7-8BB7-40BF-9439-5A88590EB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C21F0-8D1B-4929-BEB7-8DECE40E5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13240-5DC0-4536-ADB0-50AAC4C0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DC181-9CA6-49D2-8EA9-2B668D5F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F39FCB-4506-4779-843A-1E9417F1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5E12CF-8204-4C90-B93F-D0FD09D4D945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154686-DC3B-45CF-9BB5-38B509FF18D4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47062C-9920-4309-B39D-6C9390521593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94310E-C596-4D26-9C59-17BDDDB2D5ED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3C92D7-E78F-4C4B-8A7A-68F540FE9FA6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40A5CE-99D3-4A2E-B05C-865BC08EFFC1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4CE6E8-4667-4874-A08B-FBF9C14265B3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F14E78-0237-42A1-9616-21D37F4DB06C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04DA0A-D797-480D-9666-9F3B4B5789BA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6D6897-C4D6-4258-A14D-0C65A25DE26E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4F4E2A-ED9C-4903-96B1-6D259B12CC78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3889440" cy="129672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900" spc="-1" strike="noStrike">
                <a:solidFill>
                  <a:srgbClr val="9973ff"/>
                </a:solidFill>
                <a:latin typeface="Gill Sans MT"/>
              </a:rPr>
              <a:t>ŽSV IZ INFORMATIKE I RAČUNALSTVA ZADARSKE ŽUPANIJE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773440" y="2420640"/>
            <a:ext cx="3743280" cy="2663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D S UČENICIMA S TEŠKOĆA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RTA KLOBUČAR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G.PAED.SOC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0920" y="804600"/>
            <a:ext cx="74041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10920" y="1989000"/>
            <a:ext cx="74041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ADRŽAJ EDUKACIJE: Operativni sustav Windows 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CILJEVI: Učenik prepoznaje i uz pomoć može opisati neke temeljne programe koji su dio operacijskog sustav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AKTIVNOSTI:  uz pomoć nastavnika prilagođava korisničko sučelje operacijskog sustava svojim potreb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TRATEGIJE PODRŠKE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smjeravati njegovu pozornost na nastavne sadržaje, provjeravati ga individualno, osigurati kratkotrajan odmor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ilagođavanje teksta (uvećanje i pojačanje tiska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ticanja u tekstu (uokviravanje, podcrtavanje)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raščlanjivanje sadržaja na manje cjeli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vaki učenik je poseba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spjeh ovisi o puno čimbenika, posebice o odnosu prema školskim obveza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jeca s istom teškoćom ne moraju imati iste potrebe u nastav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Ocjenjuje se trud!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df2f5"/>
            </a:gs>
            <a:gs pos="100000">
              <a:srgbClr val="f2b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HVALA NA PAŽNJI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2" name="Picture 2" descr="tweet picture"/>
          <p:cNvPicPr/>
          <p:nvPr/>
        </p:nvPicPr>
        <p:blipFill>
          <a:blip r:embed="rId1"/>
          <a:stretch/>
        </p:blipFill>
        <p:spPr>
          <a:xfrm>
            <a:off x="1692360" y="2060640"/>
            <a:ext cx="60483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JČEŠĆE TEŠKOĆ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1719000"/>
            <a:ext cx="905976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čitanja i pisanja (disleksija i disgrafij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pažnje i koncentrac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ntelektu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Emocion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2" name="Picture 9" descr="Slikovni rezultat za kids"/>
          <p:cNvPicPr/>
          <p:nvPr/>
        </p:nvPicPr>
        <p:blipFill>
          <a:blip r:embed="rId1"/>
          <a:stretch/>
        </p:blipFill>
        <p:spPr>
          <a:xfrm>
            <a:off x="3203640" y="3068640"/>
            <a:ext cx="51213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RIJENTACIJSKA LISTA TEŠKOĆA (NN 24/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Skupine vrsta teškoća su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1. Oštećenja vid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2. Oštećenja sluh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3. Oštećenja jezično-govorne-glasovne komunikacije i specifične teškoće u učenju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4. Oštećenja organa i organskih sustav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5. Intelektualne teškoće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6. Poremećaji u ponašanju i oštećenja mentalnog zdravlj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7. Postojanje više vrsta teškoća u psihofizičkom razvoju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ČENICI S TUR SE ŠKOLUJU PO RJEŠENJU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individualizirane postupke (čl. 5.)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li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prilagodbu sadržaja i individualizirane postupke (čl. 6.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(navedeno se odnosi na REDOVITE PROGRAME!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Pravilnik o osnovnoškolskom i srednjoškolskom odgoju i obrazovanju učenika s teškoćama u razvoju (NN 24/15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EŠKOĆE U UČENJU I INFORMAT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roces (slijed) nastavnog sat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Održavanje pažnj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osvećenost detaljima (koraci koji se moraju slijediti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Razumijevanje gradiva (umjesto „štrebanja”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čenje koraka napame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Snalaženje na ekran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Korištenje oprem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VIJEK PROVJERAVATI I PO POTREBI VRATITI NA KORAK KOJI NIJE ODRAĐE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ZRADA IOOP-A: KAKO I ZAŠT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OOP – individualizirani odgojno – obrazovni program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SPECIFIČAN za potrebe djeteta!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e možemo pretpostaviti da isti odgovara svakom djetetu s teškoća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zrađuje ga nastavnik/učitelj uz pomoć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poznaje svoj nastavni predmet, proces učenja i očekivane ishode, a stručni suradnik poznaje potrebe uče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Zamišljen kao program koji djetetu omogućuje praćenje nastave s obzirom na svoje potrebe, a nastavniku olakšava pripremu nastave vrednovan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AKO PISATI IOOP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28560" y="1412640"/>
            <a:ext cx="78868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dobije od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omogućiti više vremena za aktivnost, podijeliti zadatke u više manjih cjelina, usmjeravati pažnju, izbjegavati prepisivanje, preferirati usmenu provjeru znanja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INICIJALNA PROCJENA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: Kako nastavnik vidi učenika u odnosu na predmet?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TEMELJITI NA JAKIM STRANAMA! 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 motiviran je za sve sadržaje, primjenjuje sva naučena pravila, uspješno rješava različite vrste zadataka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ADRŽAJ EDUKACIJE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tema koja se obrađu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rad s u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CILJEVI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koja znanja će usvojiti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samostalno ili uz pomoć učitelja/učiteljice rješavati jednostavne probleme koji se koriste ulaznim i iz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hr-H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39640" y="692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AKTIVNOSTI ZA UČENIKA/UČENICU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npr. učenik uz pomoć slaže jednostavan program služeći se naredbama ulaza, pridruživanja i izlaz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STRATEGIJE PODRŠKE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(prilagodba metoda, sredstava, oblika, postupaka, zahtjeva): koje metode će nastavnik primijeniti kako bi obradio temu u skladu sa specifičnim potrebama tog učenika/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np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osigurati kratkotrajan odm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prilagođavanje teksta (uvećanje i pojačanje tis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isticanja u tekstu (uokviravanje, podcrtavanj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raščlanjivanje sadržaja na manje cjel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MJER ZA IOOP (5.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442520" y="1413000"/>
            <a:ext cx="7016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Opis teškoć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ove teškoće proizlaze iz potreba povezanih sa specifičnim teškoćama čitanja i pisanja te teško održivom pažnjom i koncentracijom.  Učenik ima pozitivan odnos prema šk. obvezama. Pamti slikovite primjere, usporedbe, slike itd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u je potrebno individualno pristupiti. Jasno mu dati do znanja što se očekuje i provjeriti razumije li. Izbjegavati čitanje nepoznatog teksta. Prepisivanje svesti na minimum. Potrebno mu je češće usmjeravati pažnju na zadanu aktivnost. Omogućiti više vremena za zadatak. Složene zadatke potrebno je podijeliti u više manjih. Omogućiti mu kratke predahe više puta tijekom nastave. Poticati ga pohvalom i istaknuti ga u aktivnostima u kojima je uspješa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6:58:23Z</dcterms:created>
  <dc:creator>dsp</dc:creator>
  <dc:description/>
  <dc:language>en-US</dc:language>
  <cp:lastModifiedBy>Marta Klobučar</cp:lastModifiedBy>
  <dcterms:modified xsi:type="dcterms:W3CDTF">2019-12-16T11:14:00Z</dcterms:modified>
  <cp:revision>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