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1E5EE6-4B89-4640-88A7-23EA7EA555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777BE0-9B59-441E-9FB2-A8551B92BC7F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5821-B8A7-4720-B860-23A640A3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FCB3-F853-4E3E-963E-3B60E375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18BBB3-04B6-47E4-837C-E9B63075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76D8D-446C-448D-969D-09BD4DBB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D289F-D5F6-4161-9327-55A9EFD5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16D67-DB23-44C6-B181-C0C5C434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464D1-ED65-457E-A43E-49510CD9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20742-75D1-4B5C-8E52-EE83DDFD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6E5F3-E821-48A2-918E-E28EC079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E0EC5-14E9-43D7-AC94-733581FA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3F3A9-490E-47E3-8AFF-F68AC1CF1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E62C5A-4436-43B1-BD82-4E4DB553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E0AF-1008-4C23-B978-A13CF663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67C12-9690-41CF-8C87-9AE2BEF3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18E9B4-73CE-43D8-A7AD-F9289FA8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FC384-E80B-474D-B3D3-FC2E23C9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8809E-7688-4497-8F7D-F0B19539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89A800-6EDD-4636-9211-AE26F3FD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2ED5CD-92FC-4814-8418-059567F8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7218AC-0F82-4FE4-9FA5-A3CCBDC8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C6C9BD-8DB2-42D7-AB71-D0194946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A710B-DAA2-4655-8E9B-4542AC13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0554B-BC0D-421F-8AE1-1F408A6D0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D3A5-1A3D-4FA8-B41D-6AFB05BC2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10AB4-DF19-4437-AF8B-6025BD84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051F1-49DA-4688-B24F-546CE0E3F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EDE95-5D01-415A-AE9E-A85898D5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BA3F0-436E-44D4-BB81-6D896332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3EDD4-CF92-4408-A443-8AA2B9FB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15B66-194A-4D56-8E3C-65C4C114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7F725-A0F6-45EA-A7EA-30FFF922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0A4AA-CDB9-442A-AADF-4F1E4FEC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DD539-2412-459B-94DB-AB6A2F85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D06C5-DA25-4933-9E7E-64AE035D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2E47-CE7B-4D13-86F0-46F0E0AC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8E04C-D5B4-4282-B12D-C7508B12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7B292-97D9-4C31-9759-C663CEF94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460A2-51F4-4AB1-BF9D-3965A4F8C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9E58-903D-40D3-848D-DC4B7261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01EA-2923-4A8B-8A4A-D6A93A95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D7C0-3003-4519-AAD8-C31FE44C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7136-A7C4-4868-9C45-43E97332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B36A-D8CC-4708-8995-27CE93D1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35AF-A29B-4B0F-94B5-D6D9A6D5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3BBE-8103-49BD-8E1C-2DBCBA83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7F31-1EBC-49C8-9D22-24E4BEEE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3398-E667-4A47-886F-BD08C16D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A85A-B296-46B3-9425-81BFBB0C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0B1A-482B-4188-9DC8-64A8D7BCB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05CE-24BB-40D0-BFE5-8EB3AF961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0ECEA-A97A-4ACC-9073-BA821B5EF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3E194-A1F6-43CB-B8C7-D8679DF5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10F2F-04E4-445C-BF13-81BBB6CA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9ABE7-24F9-46FD-9BD0-61C42308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CA5E0-3102-4F1E-91DE-BEC8F5A3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61F9-1929-4A28-AAD7-A16ACD31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3459E-4F50-40DF-80E6-4262A923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7C412-E849-4211-A479-19EC14B5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7B3DC-8140-4D0F-AA44-09345DA0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4926F-1AF4-41B3-B0D5-3C7BCEEA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7DA53-8E54-4CA7-84E1-AB527C4F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94B7D-BE1F-4A30-A0BD-9AFD3968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E3F96-FC04-4926-BAF0-4C0BE9C41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91A87-9EEE-42A1-A3C5-F64B1AA1E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7C577-44E5-41CB-8561-04BDA1B0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04356-37F2-4BC7-8678-5B1BB461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E305-C8AF-412E-B872-89CB63F7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16AB5-6237-43DA-9557-53F3D6AE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EF72A-22C5-4AA4-BD2E-56DBC7BE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3B2E2-9F63-4785-BCF0-EC063457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E64CC-E9F1-4FA4-B61B-E50E218C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C9823-411C-4CF4-A94D-15F9D3F9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1ED98-DA82-4D86-ABFB-CAC0FB0B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ED45B-485F-4516-AE06-CE2BCD8B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FF7CB-C51D-4D9F-8474-C328AA09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490BD-4554-430C-B205-50FCD566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97380-9509-4225-9617-8CBEB2935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64E3-5D41-4407-A8AA-C8DF8CB5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D127A-CCAF-46D6-AAE9-0085218F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4D6FD-665A-480B-ACC6-8981A5B7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7B355-E54D-45BD-856B-8C540624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86E02-1837-46E1-87A4-18CC34A6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0616E-D219-46C7-B878-B9B88806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9C8FD-F3CD-4507-928A-2B07EF8F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D7BC5-DF39-4B89-92EC-5EC1CCB8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3C5A6-A494-4528-AC56-C8A94576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85326-6D08-4396-9AB0-DF7F7675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36517-0F8F-4533-A11E-0A0A4EF8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E294-4240-4ABC-A887-E2276566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E9233-AE2C-4FF9-9724-2B0F57D8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1E5D9-C1EB-4CBB-A3A0-7299B74DF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4C417-F1A3-42DE-8F9F-8EC0312D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B7113-812B-4F31-B183-81FCB015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5228D-AD5A-4727-A921-3EEA259D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F2262-12DA-4B7B-AA1C-7A3CC6B6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19866-AF43-4991-82D6-77426B1B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9B6EA-563E-4281-9B0F-9F6C096F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3EA9F-A7F2-4181-A815-D549F79A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53753-8699-45AF-8AFF-B7E62CDF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8CF4-FCE8-432C-9D81-F7509A81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D9F8B-E0C6-4D80-8773-6C982254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B7D83-13C5-46FB-A3C1-7AF86FB86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D5E06-F748-4205-96B3-9E1BC5BB8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49CA9-D9FB-4B73-B3AE-87A5EFD2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B94BC-D3C9-4DF5-8247-CD2BE7AD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0C6C1-84A5-4056-A68F-8AB55820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7672F-D77C-4DC4-B221-79DDBEA7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16FD1-B986-4A58-A27B-EF98AB9E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91EE6-B77F-4EC3-BC57-28D28B27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0C871-9E35-444E-A0A6-D87CD4AD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8BA0-B242-434F-9D3C-4ECE2CE7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F8EC6-3FBE-412B-935F-9ACD01D4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434B1-4DBE-4794-A18A-A7DDB624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D4AD1-D011-4B1C-AE83-A9338C4E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6D510-2596-420D-9F4B-63BA2850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B0D6B-0BEC-4303-89CF-D9C55D4E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C3B4C-25FF-44E7-ABC7-B5520370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CA401-F4CE-43E1-AE36-14C69EC4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2119F-7626-4CA8-9B5C-DB377B42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F32D1-41EB-4113-9C91-9B93CAFB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F4A0E-E0EF-4B63-BE9D-4CCC7484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B7DD-8E0B-4D1C-84D9-AC71DF31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DE39F-9B85-4D01-BB01-E16C9740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54E66-36EE-4FF0-9353-3D0311EE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02433-ADC3-4EE0-89E0-4E7290E0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77359-F4DB-4679-93EC-3E7B8A9E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941F7-7FC6-4A30-AF07-BA5467AA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E00F2-54D2-4741-A189-6807DF0CC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E883D-B808-40C8-B781-51CDF366E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A362D-A776-489F-A63D-42450CBF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49C09-23AC-45D3-B14B-3AD49CDD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35D88-6CCD-4541-80B9-E411D02B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D459DD-0451-41DE-A206-1C62D29923B6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111562-554B-4616-9ECC-8E36451ECB0C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975EBD-5F82-4541-91E2-0ADD1045CC9C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AE2C53-416B-4A60-9A2C-92E33101BCBA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768EF1-B48D-4C4D-A752-434F19554614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218C80-BC4D-4D41-B420-058DAFDB086E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7B49E4-A18F-43FB-A3A4-840368B511EE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886E51-EB4D-491D-BE69-C29C6E48CB6B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5D25B8-50F9-4C6A-8C04-24B4F4E0201B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DBB5AB-8F54-4350-81DB-6CC30CBE3F6D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9E504B-1CE4-4BFA-BE65-C32438D389C3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3889440" cy="12967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9973ff"/>
                </a:solidFill>
                <a:latin typeface="Gill Sans MT"/>
              </a:rPr>
              <a:t>ŽSV IZ INFORMATIKE I RAČUNALSTVA ZADARSKE ŽUPANIJE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773440" y="2420640"/>
            <a:ext cx="3743280" cy="2663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 UČENICIMA S TEŠKOĆ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RTA KLOBUČA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G.PAED.SO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804600"/>
            <a:ext cx="740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0920" y="1989000"/>
            <a:ext cx="74041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DRŽAJ EDUKACIJE: Operativni sustav Windows 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CILJEVI: Učenik prepoznaje i uz pomoć može opisati neke temeljne programe koji su dio operacijskog sustav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KTIVNOSTI:  uz pomoć nastavnika prilagođava korisničko sučelje operacijskog sustava svojim potreb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TRATEGIJE PODRŠK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smjeravati njegovu pozornost na nastavne sadržaje, provjeravati ga individualno, osigurati kratkotrajan odmor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ilagođavanje teksta (uvećanje i pojačanje tis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ticanja u tekstu (uokviravanje, podcrtavanje)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raščlanjivanje sadržaja na manje cjel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učenik je poseba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spjeh ovisi o puno čimbenika, posebice o odnosu prema školskim obvez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jeca s istom teškoćom ne moraju imati iste potrebe u nasta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cjenjuje se trud!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df2f5"/>
            </a:gs>
            <a:gs pos="100000">
              <a:srgbClr val="f2b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2" descr="tweet picture"/>
          <p:cNvPicPr/>
          <p:nvPr/>
        </p:nvPicPr>
        <p:blipFill>
          <a:blip r:embed="rId1"/>
          <a:stretch/>
        </p:blipFill>
        <p:spPr>
          <a:xfrm>
            <a:off x="1692360" y="2060640"/>
            <a:ext cx="6048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ČEŠĆE TEŠKOĆ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1719000"/>
            <a:ext cx="90597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čitanja i pisanja (disleksija i disgrafij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pažnje i koncent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telektu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mocion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9" descr="Slikovni rezultat za kids"/>
          <p:cNvPicPr/>
          <p:nvPr/>
        </p:nvPicPr>
        <p:blipFill>
          <a:blip r:embed="rId1"/>
          <a:stretch/>
        </p:blipFill>
        <p:spPr>
          <a:xfrm>
            <a:off x="3203640" y="3068640"/>
            <a:ext cx="5121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RIJENTACIJSKA LISTA TEŠKOĆA (NN 24/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Skupine vrsta teškoća su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1. Oštećenja vid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2. Oštećenja sluh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3. Oštećenja jezično-govorne-glasovne komunikacije i specifične teškoće u učenju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4. Oštećenja organa i organskih sustav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5. Intelektualne teškoće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6. Poremećaji u ponašanju i oštećenja mentalnog zdravlj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7. Postojanje više vrsta teškoća u psihofizičkom razvoju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ČENICI S TUR SE ŠKOLUJU PO RJEŠENJU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individualizirane postupke (čl. 5.)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prilagodbu sadržaja i individualizirane postupke (čl. 6.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(navedeno se odnosi na REDOVITE PROGRAME!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Pravilnik o osnovnoškolskom i srednjoškolskom odgoju i obrazovanju učenika s teškoćama u razvoju (NN 24/15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ŠKOĆE U UČENJU I INFORMA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roces (slijed) nastavnog s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Održavanje pažnj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osvećenost detaljima (koraci koji se moraju slijedit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Razumijevanje gradiva (umjesto „štrebanja”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čenje koraka napame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Snalaženje na ekran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Korištenje oprem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VIJEK PROVJERAVATI I PO POTREBI VRATITI NA KORAK KOJI NIJE ODRAĐE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RADA IOOP-A: KAKO I ZAŠ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OOP – individualizirani odgojno – obrazovni program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PECIFIČAN za potrebe djeteta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e možemo pretpostaviti da isti odgovara svakom djetetu s teškoća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zrađuje ga nastavnik/učitelj uz pomoć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poznaje svoj nastavni predmet, proces učenja i očekivane ishode, a stručni suradnik poznaje potrebe uče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Zamišljen kao program koji djetetu omogućuje praćenje nastave s obzirom na svoje potrebe, a nastavniku olakšava pripremu nastave vrednovan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PISATI IOO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28560" y="1412640"/>
            <a:ext cx="7886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dobije od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omogućiti više vremena za aktivnost, podijeliti zadatke u više manjih cjelina, usmjeravati pažnju, izbjegavati prepisivanje, preferirati usmenu provjeru znanja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INICIJALNA PROCJENA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: Kako nastavnik vidi učenika u odnosu na predmet?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TEMELJITI NA JAKIM STRANAMA!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 motiviran je za sve sadržaje, primjenjuje sva naučena pravila, uspješno rješava različite vrste zadataka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ADRŽAJ EDUKACIJE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ema koja se obrađu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rad s u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CILJEVI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koja znanja će usvojiti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samostalno ili uz pomoć učitelja/učiteljice rješavati jednostavne probleme koji se koriste ulaznim i iz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r-H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9640" y="692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AKTIVNOSTI ZA UČENIKA/UČENICU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npr. učenik uz pomoć slaže jednostavan program služeći se naredbama ulaza, pridruživanja i izlaz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STRATEGIJE PODRŠK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(prilagodba metoda, sredstava, oblika, postupaka, zahtjeva): koje metode će nastavnik primijeniti kako bi obradio temu u skladu sa specifičnim potrebama tog učenika/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p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osigurati kratkotrajan od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prilagođavanje teksta (uvećanje i pojačanje tis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isticanja u tekstu (uokviravanje, podcrtav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raščlanjivanje sadržaja na manje cjel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JER ZA IOOP (5.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42520" y="1413000"/>
            <a:ext cx="701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pis teškoć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ove teškoće proizlaze iz potreba povezanih sa specifičnim teškoćama čitanja i pisanja te teško održivom pažnjom i koncentracijom.  Učenik ima pozitivan odnos prema šk. obvezama. Pamti slikovite primjere, usporedbe, slike it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u je potrebno individualno pristupiti. Jasno mu dati do znanja što se očekuje i provjeriti razumije li. Izbjegavati čitanje nepoznatog teksta. Prepisivanje svesti na minimum. Potrebno mu je češće usmjeravati pažnju na zadanu aktivnost. Omogućiti više vremena za zadatak. Složene zadatke potrebno je podijeliti u više manjih. Omogućiti mu kratke predahe više puta tijekom nastave. Poticati ga pohvalom i istaknuti ga u aktivnostima u kojima je uspješa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58:23Z</dcterms:created>
  <dc:creator>dsp</dc:creator>
  <dc:description/>
  <dc:language>en-US</dc:language>
  <cp:lastModifiedBy>Marta Klobučar</cp:lastModifiedBy>
  <dcterms:modified xsi:type="dcterms:W3CDTF">2019-12-16T11:14:00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