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A5B9E8-D89D-4118-A2A9-10A9B1B77A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1DD8D0-CFDA-4F1A-AB4B-4E6C39AE0E05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2BA6-0404-470C-A201-683CE0DD6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505F-FAC9-42D3-A915-A64C963C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364C8-638E-47C4-9008-21197991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F8FC0-B88E-4FFD-A9B4-BA64878D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9ED87F-34DF-463F-95F0-0546D2DA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C603B-6AB5-4283-A8CB-1CF63768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87E4D0-745A-4F63-93BB-3E26866C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9F91C-BE1A-4731-97B1-50ABCF39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4DB44-A0D3-481C-B262-AFD4F01D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481FB-A891-4973-BC87-5B71732CE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B9EEEB-8309-416E-B252-ABE9AE213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7E7F7-AA9B-4CA9-8B71-6204C7D8F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0D1E-CEFA-41AA-815C-9B90027DB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812249-D54A-401C-9BB5-947EFD30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C456C5-14A3-4E76-8ADB-4EBC459A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63350-2D34-46B7-A8F4-FA91BD07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28003-7B09-4876-8415-8A412399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54159C-E3AD-4B18-92E8-C31DD06A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5B6AB-3A05-4B7A-A071-88FBE979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0FAA3-A2B3-45B7-BCAE-49EE0127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E61913-ADCB-4E59-A0EC-9C980297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A05910-D1CC-4E88-B0E1-0E7916A6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B414BB-EB1A-4746-9AF7-B9DF0D7D8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0C2E-7667-4425-915D-AA43A7AB5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3B7523-E80A-4EC2-B837-69F351CDD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D149B-2AE3-466C-B135-3F1DA76A9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CAF47-C67E-4488-BD2E-F5C47176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C385E-AC29-40B5-A41A-76AA4F8D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B3E5A-A8C2-41A3-93D8-80B6E1C9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DDD74-0BA8-4863-89C1-09198398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C0989-5BF8-4118-91B1-9902A31D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27C30-C2AD-4F0D-B89A-05788A0F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F45D4-0727-44BB-870D-F364F42A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962D5-9742-44B3-B81F-40DFD012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EFC8-B029-4451-B490-3F3AD822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F1A5F-7C20-4C52-8BDE-D9E45FC1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A6E60-871D-4DF3-8EBB-3EE72BFD6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61772-08FA-4C96-BE48-3903FC1F1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0252-25B8-42FB-A8D3-1EC0929B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92C4-6A27-45FC-92E7-BE4EFA72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AB4C-510E-43C7-840E-DA0004DA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D637-C39B-452B-A6CA-1DB50A0A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261C-1CA1-4229-A7AE-C19AB92D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9059-3CDE-46E9-AA67-C2DFA2A4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017C-887F-4D69-85C9-6F7654F8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8AF3-B3BA-419E-8361-C77245F3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364A-8376-4626-AADE-F74A5A17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2D1B-4BD8-42B1-8254-4789A90C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7253-379B-4D22-ACA5-82CD6F944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1965-C4E5-4F5F-AE38-A8A3AB5F2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7578F-CD7C-4D38-9944-C65C45BF7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EDB49-1013-4FF8-B048-9D485BF5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F3D3B-F320-4C8F-BB71-46285345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1BE0F-E2D9-4EB3-819E-DEAD5F2F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4A72D-3EEA-4F88-92E7-8A1B5158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FF5D-0503-42DB-B778-B55387F5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72E92-6E5A-4A4A-A655-E1B067E6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25482-4FC3-4410-92B8-3E7B1132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25D9D-8B17-4212-B487-BA945304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3ED4E-3974-481C-8D4C-92C7AD8B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EAC8F-527C-4D8C-AB24-611FB481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36AE3-4016-44D8-A4A4-EA668A951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F3A36-1EE6-4ADD-AB92-D346BBE94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3D80E-B8C1-4E0A-8520-3C76C4B1D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9249B-7DA1-405F-A5F9-EE6FA6E9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6DA18-1124-44B8-B788-28110E92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A00A-B13B-4B7D-8D41-A8358660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2959F-CB0B-43C0-95EA-B0CF16F3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9D6A3-C196-4251-915D-5866C43E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3DECB-060A-4F95-9E5B-0EAB6D37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13D06-17B7-4AFE-B2AA-30AC7E74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7CE82-4439-4DBB-AF48-8F35157C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17862-3E1D-4839-BC5C-968A0CCA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C76A1-0423-4853-A5D2-DEDA2927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A91D3-B988-4DE1-A363-B54E3A210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46106-BC75-4C0B-9E3A-447D7F27A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02F95-600E-422B-A4B9-AB2B3822D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9C9A-A158-44C7-BBF1-F5C8310A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C0BAB-C72A-4710-91FC-9F024BE2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57C9B-A51B-4E88-B11E-01CEDC85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6AE82-D0C4-456F-8EB2-EA578D6F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F20DD-E3FE-43F2-A1F3-7206800D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1833E-5420-4DDE-879D-CA888BE9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4AF06-9DB0-473E-A1EA-595D1C15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C1900-BFE0-4824-B1ED-F76966FB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69228-B01F-400F-8C12-F5EBC2A0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C3BC0-4897-45E2-995E-0839FE41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5C274-E71E-4571-9D6E-070B01ECD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FE47-6A28-4595-BDBF-86C8A8FA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0D36E-4BD1-452E-A6A8-0E349079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F3340-2198-452F-84EA-9286C95B9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C040F-17B1-4F96-AB96-352AF5B3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F433E-53CC-4AE0-9905-588386A7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F021F-C3B3-46BF-A78F-D28BC6B5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3B189-62C7-47BC-B3EA-71EC6A99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365EF-8B3D-4B3B-8CDF-AF7871EF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7A82A-F88E-497C-84B2-A37216A7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B8126-C815-474A-854C-31F3687C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3A90D-A648-4595-B9DB-D6CEDD2B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A4ED-4B29-4913-BBC8-A4CF9267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DF14E-6315-425F-BD3B-085B808C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8C4D4-F311-4381-A430-1988E8341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B44A0-F5DD-42B9-BB46-82CBF2EB0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8E337-D403-4FC5-BD63-39279117B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71A7C-A8A0-459E-8365-6CEDCA6C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DA626-8FCD-4C95-9367-19B9ECAA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CF9FA-3437-4283-8F15-4DCB4B95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DF2EC-FABC-485B-85D0-A34F236A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A3F57-288A-451F-83CD-13FD6153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E1614-4CBB-4C7C-B48B-43F2C908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A35A-086C-4BF1-A766-CA6EE3AF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D753D-FE17-465E-8684-7854DF85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45DF8-32E3-45A3-A7D8-AC9C4B49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EF27F-6B61-4983-896F-E943677C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C2157-74F0-43BD-B1AF-2C315F934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6E521-D203-4314-9A80-F63BDE005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3FAC2-32C4-4944-B3C2-5FA985CB8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8A054-3752-4164-8EA7-A9BD74A5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98D6E-CD0B-4107-8643-DB62F190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D7FA1-27A4-4B4B-95BA-1CBBFC33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B333E-1475-4AB6-9C48-7F9BA76C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626D-F115-4441-82A7-2D9ED0E8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8A6C2-290A-4952-BE68-82D09BBB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533F4-324B-403A-BD45-3BC679D9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83F37-3B71-4908-957A-74DE43B2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C4CD9-ED9C-4FFF-9077-036197ED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EC1F0-45BF-44D5-BC1E-202365B6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5A7F6-392C-4934-A85C-FFEAB2B35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A1BBE-3A2A-4F0A-A4EF-385F0CD5D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910D14-05B4-476A-9D56-4D71136F3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94F47-36CB-43E6-B4E9-9D4208D9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9BFE7-3BE2-47F8-AD0C-66D208BC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629C24-3E74-48CF-9202-284D9FC458A5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96F17B-3FFC-419B-9857-5D1263DBC11F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4DB774-3104-4CC5-9ECB-E78E7E78A60B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59166C-635A-473B-B91A-18B6104030BB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2F179D-450E-4A24-A447-41FCEDACEBB0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25F239-1068-4622-9F2F-8A5FE76BFE95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936A11-9671-444C-8347-1621BDB2BD92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7BC9AB-F115-4886-B63C-E206AFE472B1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BF6B5B-6D49-400D-BEEF-530C112B437D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4212A7-A047-47B2-B9B5-7F3310DAEF82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A2BE8B-2A3A-4476-8378-FFF4DBE03BD6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3889440" cy="129672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900" spc="-1" strike="noStrike">
                <a:solidFill>
                  <a:srgbClr val="9973ff"/>
                </a:solidFill>
                <a:latin typeface="Gill Sans MT"/>
              </a:rPr>
              <a:t>ŽSV IZ INFORMATIKE I RAČUNALSTVA ZADARSKE ŽUPANIJE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773440" y="2420640"/>
            <a:ext cx="3743280" cy="2663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D S UČENICIMA S TEŠKOĆA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RTA KLOBUČAR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G.PAED.SOC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0920" y="804600"/>
            <a:ext cx="74041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10920" y="1989000"/>
            <a:ext cx="74041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ADRŽAJ EDUKACIJE: Operativni sustav Windows 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CILJEVI: Učenik prepoznaje i uz pomoć može opisati neke temeljne programe koji su dio operacijskog sustav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AKTIVNOSTI:  uz pomoć nastavnika prilagođava korisničko sučelje operacijskog sustava svojim potreb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TRATEGIJE PODRŠKE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smjeravati njegovu pozornost na nastavne sadržaje, provjeravati ga individualno, osigurati kratkotrajan odmor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ilagođavanje teksta (uvećanje i pojačanje tiska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ticanja u tekstu (uokviravanje, podcrtavanje)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raščlanjivanje sadržaja na manje cjeli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vaki učenik je poseba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spjeh ovisi o puno čimbenika, posebice o odnosu prema školskim obveza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jeca s istom teškoćom ne moraju imati iste potrebe u nastav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Ocjenjuje se trud!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df2f5"/>
            </a:gs>
            <a:gs pos="100000">
              <a:srgbClr val="f2b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HVALA NA PAŽNJI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2" name="Picture 2" descr="tweet picture"/>
          <p:cNvPicPr/>
          <p:nvPr/>
        </p:nvPicPr>
        <p:blipFill>
          <a:blip r:embed="rId1"/>
          <a:stretch/>
        </p:blipFill>
        <p:spPr>
          <a:xfrm>
            <a:off x="1692360" y="2060640"/>
            <a:ext cx="60483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ČEŠĆE TEŠKOĆ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1719000"/>
            <a:ext cx="905976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čitanja i pisanja (disleksija i disgrafij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pažnje i koncentrac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ntelektu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mocion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2" name="Picture 9" descr="Slikovni rezultat za kids"/>
          <p:cNvPicPr/>
          <p:nvPr/>
        </p:nvPicPr>
        <p:blipFill>
          <a:blip r:embed="rId1"/>
          <a:stretch/>
        </p:blipFill>
        <p:spPr>
          <a:xfrm>
            <a:off x="3203640" y="3068640"/>
            <a:ext cx="51213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RIJENTACIJSKA LISTA TEŠKOĆA (NN 24/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Skupine vrsta teškoća su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1. Oštećenja vid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2. Oštećenja sluh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3. Oštećenja jezično-govorne-glasovne komunikacije i specifične teškoće u učenju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4. Oštećenja organa i organskih sustav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5. Intelektualne teškoće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6. Poremećaji u ponašanju i oštećenja mentalnog zdravlj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7. Postojanje više vrsta teškoća u psihofizičkom razvoju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ČENICI S TUR SE ŠKOLUJU PO RJEŠENJU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individualizirane postupke (čl. 5.)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li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prilagodbu sadržaja i individualizirane postupke (čl. 6.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(navedeno se odnosi na REDOVITE PROGRAME!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Pravilnik o osnovnoškolskom i srednjoškolskom odgoju i obrazovanju učenika s teškoćama u razvoju (NN 24/15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EŠKOĆE U UČENJU I INFORMAT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roces (slijed) nastavnog sat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Održavanje pažnj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osvećenost detaljima (koraci koji se moraju slijediti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Razumijevanje gradiva (umjesto „štrebanja”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čenje koraka napame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Snalaženje na ekran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Korištenje oprem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VIJEK PROVJERAVATI I PO POTREBI VRATITI NA KORAK KOJI NIJE ODRAĐE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ZRADA IOOP-A: KAKO I ZAŠT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OOP – individualizirani odgojno – obrazovni program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SPECIFIČAN za potrebe djeteta!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e možemo pretpostaviti da isti odgovara svakom djetetu s teškoća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zrađuje ga nastavnik/učitelj uz pomoć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poznaje svoj nastavni predmet, proces učenja i očekivane ishode, a stručni suradnik poznaje potrebe uče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Zamišljen kao program koji djetetu omogućuje praćenje nastave s obzirom na svoje potrebe, a nastavniku olakšava pripremu nastave vrednovan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AKO PISATI IOOP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28560" y="1412640"/>
            <a:ext cx="78868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dobije od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omogućiti više vremena za aktivnost, podijeliti zadatke u više manjih cjelina, usmjeravati pažnju, izbjegavati prepisivanje, preferirati usmenu provjeru znanja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INICIJALNA PROCJENA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: Kako nastavnik vidi učenika u odnosu na predmet?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TEMELJITI NA JAKIM STRANAMA! 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 motiviran je za sve sadržaje, primjenjuje sva naučena pravila, uspješno rješava različite vrste zadataka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ADRŽAJ EDUKACIJE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tema koja se obrađu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rad s u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CILJEVI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koja znanja će usvojiti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samostalno ili uz pomoć učitelja/učiteljice rješavati jednostavne probleme koji se koriste ulaznim i iz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hr-H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39640" y="692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AKTIVNOSTI ZA UČENIKA/UČENICU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npr. učenik uz pomoć slaže jednostavan program služeći se naredbama ulaza, pridruživanja i izlaz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STRATEGIJE PODRŠKE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(prilagodba metoda, sredstava, oblika, postupaka, zahtjeva): koje metode će nastavnik primijeniti kako bi obradio temu u skladu sa specifičnim potrebama tog učenika/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p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osigurati kratkotrajan odm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prilagođavanje teksta (uvećanje i pojačanje tis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isticanja u tekstu (uokviravanje, podcrtavanj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raščlanjivanje sadržaja na manje cjel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MJER ZA IOOP (5.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442520" y="1413000"/>
            <a:ext cx="7016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Opis teškoć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ove teškoće proizlaze iz potreba povezanih sa specifičnim teškoćama čitanja i pisanja te teško održivom pažnjom i koncentracijom.  Učenik ima pozitivan odnos prema šk. obvezama. Pamti slikovite primjere, usporedbe, slike itd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u je potrebno individualno pristupiti. Jasno mu dati do znanja što se očekuje i provjeriti razumije li. Izbjegavati čitanje nepoznatog teksta. Prepisivanje svesti na minimum. Potrebno mu je češće usmjeravati pažnju na zadanu aktivnost. Omogućiti više vremena za zadatak. Složene zadatke potrebno je podijeliti u više manjih. Omogućiti mu kratke predahe više puta tijekom nastave. Poticati ga pohvalom i istaknuti ga u aktivnostima u kojima je uspješa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6:58:23Z</dcterms:created>
  <dc:creator>dsp</dc:creator>
  <dc:description/>
  <dc:language>en-US</dc:language>
  <cp:lastModifiedBy>Marta Klobučar</cp:lastModifiedBy>
  <dcterms:modified xsi:type="dcterms:W3CDTF">2019-12-16T11:14:00Z</dcterms:modified>
  <cp:revision>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