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9.jpeg" ContentType="image/jpe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dt" idx="3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 type="ftr" idx="3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6"/>
          <p:cNvSpPr>
            <a:spLocks noGrp="1"/>
          </p:cNvSpPr>
          <p:nvPr>
            <p:ph type="sldNum" idx="3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1448411-5DE7-45CE-9B70-1A089C4F33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C8C73CE-18E3-41A8-AC2F-A44E731B5117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EE9F1-6A4A-41C0-89AC-ED2255749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B8A14-067E-4D75-8606-91E54668F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227B8B-7516-4F40-9365-0A030A36D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763535-582F-4713-8FE3-7530B2DEC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2D9969-1225-49DF-9E0B-28D0F8ACE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14FC68-1908-426C-B08A-E9EBE7B11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ABF6D2-29B5-4E0F-A71C-048647C24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1A6CFE-2217-4AC5-B773-785014586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AB4D03-AFE4-4DEE-A1F5-C6CE31BC2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33F8D3-D52E-4E23-9D76-266E82E9E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4EC437-A9F2-40E0-ABFB-528C8CEA0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DB4F19-F7C1-42D1-A109-E0309565C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A1616-B542-4CF3-A7C2-BD68F98D7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9FEAA5-6F4D-4190-B0BA-0B952E776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F4C72D-3C04-4A04-9299-24F323A10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8E3068-0B35-4EA6-B5F3-05BE967C7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D1074B-AD3A-49C7-9A9E-857F57A36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605FBB-CFD8-4CCA-8C0C-4CCBE0A62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90AACD-0182-4EF5-BBD1-062D7ED0F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BB02DA-5A98-4D0A-B0C6-0B3E3E5CF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FD9DBC-88B6-48F0-AB57-24D0716D5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09E8BE-63E2-4B68-8F98-260133301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9798E6-2059-430E-8A6E-2C429A450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A76D1-4D05-4D90-8FD1-31287F993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4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5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2F84A2-BF83-4DBA-B1EE-1C7BDCD1A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33A63C-69BE-4326-A1D1-B17EEF65C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4C4500-F5C2-4005-8CE1-4BB6854BF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1F6EBD-1501-490C-A76D-2FF064557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C6B383-A280-4FC0-AAA0-7F9D3682D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E08386-BDFA-4308-AAD2-213A949FE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3B7244-7585-4449-BEB2-60F3BE0F0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6EE2BA-B1E5-4EE4-8A75-36D11F882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892E48-8B12-4F43-A484-044C8C4FF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1BA4E1-0D1A-41DF-BE2C-04A0B20DB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A7695-3751-459F-9CA2-B39227D94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729622-13BB-4C3E-AC10-C0467DDFB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B0B5F4-D608-487A-8A09-8FAC5BC39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9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0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4BB0BC-5BCB-4326-ADC3-7C7ADE7F0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5E71A-AB4E-49BD-8400-B5C4DF1AD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D3FFF-1E0D-43DF-B048-FEE54ED64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AA42C-461D-4A0B-B9C3-61989B3BB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D9C6D-4FDE-4884-9970-2A88E4840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58502-B358-47FC-992B-36E9FA95C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83DE3-0D86-4663-A03F-73AAFA43B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AC272-03AF-4BB4-BB03-963A95559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A3A4A-0B4F-4CEF-BAD1-091517C8A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4C535-A8C5-4E8E-889E-2BA86DD04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EC7AB-1503-458F-A854-EDEF0A90C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825BA-2673-4F8F-90FF-46F767D78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46B79-2BFA-45CD-919F-24F8730C2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54EEE1-D43C-4952-9E0D-A36A6FFC0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28A646-FFF8-42F4-9E71-583218A38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2BA109-1157-4F7F-BB62-D64F04BE7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D18DC3-27FD-44C2-9F0E-2E5181CBE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3AD031-331B-4B94-A943-574B5F4CD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BF2A3-448C-45B2-92FE-A4E13F43E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369419-3499-42A4-96F9-C53806CF4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941CBC-8ACA-45C7-B5F5-AFE42AD50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07B660-9A32-4C68-ACA3-B7EBA1B96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A55971-5495-4E1E-A99B-C1CA3862F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2BC389-DE8E-4C05-BFEA-B68101148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93909D-7052-4144-87B2-0FA2BC445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6C28CC-59A9-48E0-BE64-35052E8C4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ACEE1B-B4E4-4539-AA0E-200390496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B867A1-8DF3-42AF-A33D-838CA06F6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8655CA-E1E2-49BF-8714-37CFD0A2D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06FB3-6DF1-4DA2-B651-EE768CA86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53E367-0BFD-4996-92E1-F5E7F60B4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AE6D14-8C28-4A11-9E52-C55D033F7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033C1B-9685-4304-A13D-3C9E8C7B8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08F873-86AA-43D5-AC2E-E9E13B376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ED8051-A41B-4112-9440-7A8B64544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9DBF93-215D-47AC-8B59-64051F41E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E6F57F-B06C-45AE-94D5-CD7068F7A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D55760-7DAE-4E8A-B8BE-A6CEDE238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39A945-1F40-4910-AE0B-FDC2D9E53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730B81-22B9-497C-B47B-EC55CE546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8CF5F-E6F7-4B5E-9634-D1708899C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30BDD2-6289-4ED3-9266-1B41E06F2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DE03C2-6DFC-418C-A7D8-ADFD369C5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DB91E4-16FB-4A0F-99FC-EF273D9D2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530F44-66BC-4412-896A-727E28A4E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AD23CA-00E5-4DD4-B9F5-83A73EEC6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5FB36A-7801-4197-BC12-11F055567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65D5B3-AEA0-42FE-A988-070672538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031033-3B25-405D-BB11-7C3F96CC3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E796A8-F7C6-45D8-A2EA-607EA445A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3F65E8-0AF1-4404-817B-A7181EEED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03968-4BF2-4D14-9680-C034072A5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98C2A3-C85A-47DB-B989-990FF2A5C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EA74B2-2A39-4B66-A588-8034A4EF9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83AAF5-3AD7-4782-B1EA-1910ACB96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4C68AA-3799-4859-AACA-027402842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1DB53E-3098-422D-8B7F-00B965AA2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F96264-AC61-47B9-A335-C2961F10B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2FE995-1071-44FD-AA59-D3C5F22C8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16561A-6D81-4542-A052-DF90C997C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978E51-E2B5-4E1B-A25D-D91515099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F2DD46-BFE3-411C-A4F4-BEDC1C7A0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C7F26-12DB-4D73-8C0E-4628B1B24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2E3C23-C922-4AC1-8181-BD0C67F4A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BE0F6C-B6F9-4D87-8F2C-BE9DA742F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67B134-40D8-4CA2-8A04-365CD1DF0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AC1A67-AFDE-4C57-9447-3531391A2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19CB71-0015-4C4A-926C-82DF4FC73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C6FDEB-169B-4B5F-BE21-C483DB54B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A3D920-E5DB-4204-8F9C-B681B4626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33B451-5FDE-42DB-B0DB-B5A16AA93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C53278-AA15-4C61-8103-95D25B8D0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F23787-253A-43EA-B601-8A4AD09AE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71339-C398-4AC6-A6BE-9B91A4D40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06F78E-C3AF-4A76-8DC7-2E705CB4F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EBA54C-4D8F-4E97-933F-63A1C0EAE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F1F331-64C9-43E0-897A-99787543E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9716E3-8490-4E73-AE7F-F54A58807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CFB912-E3EB-45A2-8EEE-43F84E016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DF8AD7-FEB3-4D18-8E1E-C5E3904B8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355AC5-F049-486B-BBE4-B436F3DD6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492D98-030F-46D3-8E45-E609939E9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D9C1B3-DD04-4C38-BA1E-B98A9D556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945533-3434-415F-8CA9-B10A52167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A2335-7268-414C-8692-52991AA4A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D5543A-2DF8-4C76-AE0A-B7B6912B0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04A349-20D6-4AA0-AA01-BFE00FFDA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F3EE04-E58B-4FC5-B6DC-DDEE08FCD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51DB51-E99D-4F87-802A-A9F75BDE6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FFC263-6640-4568-A102-4F146EC0E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24E06E-56DC-49D5-A4F2-A0E010047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8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D11190-E641-4166-BA9A-6D0538962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FB6ABD-96FE-4CF7-8C58-E77598DBE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B9C626-8E19-4FA9-B12D-D91BB48B3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2FEC65-517E-409E-A213-DB35B269A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2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C34483-4CCC-493F-B366-E786DAD65F8C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12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413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4" name="Straight Connector 32"/>
          <p:cNvSpPr/>
          <p:nvPr/>
        </p:nvSpPr>
        <p:spPr>
          <a:xfrm>
            <a:off x="1442880" y="1847880"/>
            <a:ext cx="657252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dt" idx="28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ftr" idx="29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 type="sldNum" idx="30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3375F9-4C75-4428-BD08-836B8C20FFF2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57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458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9" name="Straight Connector 14"/>
          <p:cNvSpPr/>
          <p:nvPr/>
        </p:nvSpPr>
        <p:spPr>
          <a:xfrm>
            <a:off x="6918480" y="798480"/>
            <a:ext cx="0" cy="466092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 type="dt" idx="31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 type="ftr" idx="32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 type="sldNum" idx="33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FBB721-C2BE-44BD-A052-8CAF63FC6071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5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46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Straight Connector 14"/>
          <p:cNvSpPr/>
          <p:nvPr/>
        </p:nvSpPr>
        <p:spPr>
          <a:xfrm>
            <a:off x="2395440" y="3529080"/>
            <a:ext cx="561996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395080" y="328680"/>
            <a:ext cx="30877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434600" y="798480"/>
            <a:ext cx="80172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BB7306E-F3E3-4CB8-9405-8F14C51D12DD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90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91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Straight Connector 32"/>
          <p:cNvSpPr/>
          <p:nvPr/>
        </p:nvSpPr>
        <p:spPr>
          <a:xfrm>
            <a:off x="1442880" y="1847880"/>
            <a:ext cx="657252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dt" idx="7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ftr" idx="8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sldNum" idx="9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4B44F69-5CA4-4356-B380-25188B0371C1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35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136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Straight Connector 14"/>
          <p:cNvSpPr/>
          <p:nvPr/>
        </p:nvSpPr>
        <p:spPr>
          <a:xfrm>
            <a:off x="1442880" y="3805200"/>
            <a:ext cx="561816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10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11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sldNum" idx="12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246347-56A6-43E0-9B6F-95346BF9C680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80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181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2" name="Straight Connector 32"/>
          <p:cNvSpPr/>
          <p:nvPr/>
        </p:nvSpPr>
        <p:spPr>
          <a:xfrm>
            <a:off x="1442880" y="1847880"/>
            <a:ext cx="657252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11E8F1-2F67-4243-8FB9-44CBCA73785A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25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226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Straight Connector 35"/>
          <p:cNvSpPr/>
          <p:nvPr/>
        </p:nvSpPr>
        <p:spPr>
          <a:xfrm>
            <a:off x="1442880" y="1847880"/>
            <a:ext cx="657252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dt" idx="16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 type="ftr" idx="17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 type="sldNum" idx="18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490104-DC85-4FA5-B428-88EB33C1B474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70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271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2" name="Straight Connector 31"/>
          <p:cNvSpPr/>
          <p:nvPr/>
        </p:nvSpPr>
        <p:spPr>
          <a:xfrm>
            <a:off x="1442880" y="1847880"/>
            <a:ext cx="657252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19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ftr" idx="20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sldNum" idx="21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1973BF-529E-4F88-8DDF-86326AB12B89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15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316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Straight Connector 16"/>
          <p:cNvSpPr/>
          <p:nvPr/>
        </p:nvSpPr>
        <p:spPr>
          <a:xfrm>
            <a:off x="1441440" y="3205080"/>
            <a:ext cx="242424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 type="dt" idx="22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 type="ftr" idx="23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 type="sldNum" idx="24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87DC0C-9729-44DC-AEBC-CD6AA8109720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60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361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362" name="Group 12"/>
          <p:cNvGrpSpPr/>
          <p:nvPr/>
        </p:nvGrpSpPr>
        <p:grpSpPr>
          <a:xfrm>
            <a:off x="4995720" y="482760"/>
            <a:ext cx="3511800" cy="5148000"/>
            <a:chOff x="4995720" y="482760"/>
            <a:chExt cx="3511800" cy="5148000"/>
          </a:xfrm>
        </p:grpSpPr>
        <p:grpSp>
          <p:nvGrpSpPr>
            <p:cNvPr id="363" name="Rectangle 13"/>
            <p:cNvGrpSpPr/>
            <p:nvPr/>
          </p:nvGrpSpPr>
          <p:grpSpPr>
            <a:xfrm>
              <a:off x="4995720" y="482760"/>
              <a:ext cx="3511800" cy="5148000"/>
              <a:chOff x="4995720" y="482760"/>
              <a:chExt cx="3511800" cy="5148000"/>
            </a:xfrm>
          </p:grpSpPr>
          <p:pic>
            <p:nvPicPr>
              <p:cNvPr id="364" name="Rectangle 13" descr=""/>
              <p:cNvPicPr/>
              <p:nvPr/>
            </p:nvPicPr>
            <p:blipFill>
              <a:blip r:embed="rId4"/>
              <a:stretch/>
            </p:blipFill>
            <p:spPr>
              <a:xfrm>
                <a:off x="4995720" y="482760"/>
                <a:ext cx="3511800" cy="51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5" name=""/>
              <p:cNvSpPr/>
              <p:nvPr/>
            </p:nvSpPr>
            <p:spPr>
              <a:xfrm>
                <a:off x="5084640" y="495000"/>
                <a:ext cx="3310920" cy="4885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  <p:grpSp>
          <p:nvGrpSpPr>
            <p:cNvPr id="366" name="Rectangle 14"/>
            <p:cNvGrpSpPr/>
            <p:nvPr/>
          </p:nvGrpSpPr>
          <p:grpSpPr>
            <a:xfrm>
              <a:off x="5346360" y="771840"/>
              <a:ext cx="2793600" cy="4326840"/>
              <a:chOff x="5346360" y="771840"/>
              <a:chExt cx="2793600" cy="4326840"/>
            </a:xfrm>
          </p:grpSpPr>
          <p:pic>
            <p:nvPicPr>
              <p:cNvPr id="367" name="Rectangle 14" descr=""/>
              <p:cNvPicPr/>
              <p:nvPr/>
            </p:nvPicPr>
            <p:blipFill>
              <a:blip r:embed="rId5"/>
              <a:stretch/>
            </p:blipFill>
            <p:spPr>
              <a:xfrm>
                <a:off x="5346360" y="771840"/>
                <a:ext cx="2793600" cy="4326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8" name=""/>
              <p:cNvSpPr/>
              <p:nvPr/>
            </p:nvSpPr>
            <p:spPr>
              <a:xfrm>
                <a:off x="5382360" y="808200"/>
                <a:ext cx="2718720" cy="4250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</p:grpSp>
      <p:sp>
        <p:nvSpPr>
          <p:cNvPr id="369" name="Straight Connector 30"/>
          <p:cNvSpPr/>
          <p:nvPr/>
        </p:nvSpPr>
        <p:spPr>
          <a:xfrm>
            <a:off x="1441440" y="3143160"/>
            <a:ext cx="324180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dt" idx="25"/>
          </p:nvPr>
        </p:nvSpPr>
        <p:spPr>
          <a:xfrm>
            <a:off x="1436400" y="5470560"/>
            <a:ext cx="325260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ftr" idx="26"/>
          </p:nvPr>
        </p:nvSpPr>
        <p:spPr>
          <a:xfrm>
            <a:off x="1437840" y="318600"/>
            <a:ext cx="32511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sldNum" idx="27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23762B4-9FCF-4453-968D-216A7759F4F0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042920" y="692280"/>
            <a:ext cx="3889440" cy="1296720"/>
          </a:xfrm>
          <a:prstGeom prst="rect">
            <a:avLst/>
          </a:prstGeom>
          <a:noFill/>
          <a:ln w="0">
            <a:noFill/>
          </a:ln>
        </p:spPr>
        <p:txBody>
          <a:bodyPr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900" spc="-1" strike="noStrike">
                <a:solidFill>
                  <a:srgbClr val="9973ff"/>
                </a:solidFill>
                <a:latin typeface="Gill Sans MT"/>
              </a:rPr>
              <a:t>ŽSV IZ INFORMATIKE I RAČUNALSTVA ZADARSKE ŽUPANIJE</a:t>
            </a: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subTitle"/>
          </p:nvPr>
        </p:nvSpPr>
        <p:spPr>
          <a:xfrm>
            <a:off x="2773440" y="2420640"/>
            <a:ext cx="3743280" cy="2663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Gill Sans MT"/>
              </a:rPr>
              <a:t>RAD S UČENICIMA S TEŠKOĆAMA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Gill Sans MT"/>
              </a:rPr>
              <a:t>MARTA KLOBUČAR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Gill Sans MT"/>
              </a:rPr>
              <a:t>MAG.PAED.SOC.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10920" y="804600"/>
            <a:ext cx="74041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8" name=""/>
          <p:cNvSpPr txBox="1"/>
          <p:nvPr/>
        </p:nvSpPr>
        <p:spPr>
          <a:xfrm>
            <a:off x="610920" y="1989000"/>
            <a:ext cx="7404120" cy="450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SADRŽAJ EDUKACIJE: Operativni sustav Windows 10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CILJEVI: Učenik prepoznaje i uz pomoć može opisati neke temeljne programe koji su dio operacijskog sustava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AKTIVNOSTI:  uz pomoć nastavnika prilagođava korisničko sučelje operacijskog sustava svojim potrebama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STRATEGIJE PODRŠKE: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usmjeravati njegovu pozornost na nastavne sadržaje, provjeravati ga individualno, osigurati kratkotrajan odmor,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prilagođavanje teksta (uvećanje i pojačanje tiska</a:t>
            </a: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isticanja u tekstu (uokviravanje, podcrtavanje)</a:t>
            </a: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, raščlanjivanje sadržaja na manje cjeline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ZAKLJUČAK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Svaki učenik je poseban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Uspjeh ovisi o puno čimbenika, posebice o odnosu prema školskim obvezama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Djeca s istom teškoćom ne moraju imati iste potrebe u nastavi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Ocjenjuje se trud!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df2f5"/>
            </a:gs>
            <a:gs pos="100000">
              <a:srgbClr val="f2b2c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HVALA NA PAŽNJI!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32" name="Picture 2" descr="tweet picture"/>
          <p:cNvPicPr/>
          <p:nvPr/>
        </p:nvPicPr>
        <p:blipFill>
          <a:blip r:embed="rId1"/>
          <a:stretch/>
        </p:blipFill>
        <p:spPr>
          <a:xfrm>
            <a:off x="1692360" y="2060640"/>
            <a:ext cx="6048360" cy="39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NAJČEŠĆE TEŠKOĆE: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1" name=""/>
          <p:cNvSpPr txBox="1"/>
          <p:nvPr/>
        </p:nvSpPr>
        <p:spPr>
          <a:xfrm>
            <a:off x="0" y="1719000"/>
            <a:ext cx="9059760" cy="51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Teškoće čitanja i pisanja (disleksija i disgrafija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Teškoće pažnje i koncentracij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Intelektualne teškoć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Emocionalne teškoć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12" name="Picture 9" descr="Slikovni rezultat za kids"/>
          <p:cNvPicPr/>
          <p:nvPr/>
        </p:nvPicPr>
        <p:blipFill>
          <a:blip r:embed="rId1"/>
          <a:stretch/>
        </p:blipFill>
        <p:spPr>
          <a:xfrm>
            <a:off x="3203640" y="3068640"/>
            <a:ext cx="5121360" cy="32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ORIJENTACIJSKA LISTA TEŠKOĆA (NN 24/15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14560" indent="-21456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900" spc="-1" strike="noStrike">
                <a:solidFill>
                  <a:srgbClr val="000000"/>
                </a:solidFill>
                <a:latin typeface="Gill Sans MT"/>
              </a:rPr>
              <a:t>Skupine vrsta teškoća su: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214560" indent="-214560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br>
              <a:rPr sz="1900"/>
            </a:br>
            <a:r>
              <a:rPr b="0" lang="hr-HR" sz="1900" spc="-1" strike="noStrike">
                <a:solidFill>
                  <a:srgbClr val="000000"/>
                </a:solidFill>
                <a:latin typeface="Gill Sans MT"/>
              </a:rPr>
              <a:t>1. Oštećenja vida</a:t>
            </a:r>
            <a:br>
              <a:rPr sz="1900"/>
            </a:br>
            <a:r>
              <a:rPr b="0" lang="hr-HR" sz="1900" spc="-1" strike="noStrike">
                <a:solidFill>
                  <a:srgbClr val="000000"/>
                </a:solidFill>
                <a:latin typeface="Gill Sans MT"/>
              </a:rPr>
              <a:t>2. Oštećenja sluha</a:t>
            </a:r>
            <a:br>
              <a:rPr sz="1900"/>
            </a:br>
            <a:r>
              <a:rPr b="0" lang="hr-HR" sz="1900" spc="-1" strike="noStrike">
                <a:solidFill>
                  <a:srgbClr val="000000"/>
                </a:solidFill>
                <a:latin typeface="Gill Sans MT"/>
              </a:rPr>
              <a:t>3. Oštećenja jezično-govorne-glasovne komunikacije i specifične teškoće u učenju</a:t>
            </a:r>
            <a:br>
              <a:rPr sz="1900"/>
            </a:br>
            <a:r>
              <a:rPr b="0" lang="hr-HR" sz="1900" spc="-1" strike="noStrike">
                <a:solidFill>
                  <a:srgbClr val="000000"/>
                </a:solidFill>
                <a:latin typeface="Gill Sans MT"/>
              </a:rPr>
              <a:t>4. Oštećenja organa i organskih sustava</a:t>
            </a:r>
            <a:br>
              <a:rPr sz="1900"/>
            </a:br>
            <a:r>
              <a:rPr b="0" lang="hr-HR" sz="1900" spc="-1" strike="noStrike">
                <a:solidFill>
                  <a:srgbClr val="000000"/>
                </a:solidFill>
                <a:latin typeface="Gill Sans MT"/>
              </a:rPr>
              <a:t>5. Intelektualne teškoće</a:t>
            </a:r>
            <a:br>
              <a:rPr sz="1900"/>
            </a:br>
            <a:r>
              <a:rPr b="0" lang="hr-HR" sz="1900" spc="-1" strike="noStrike">
                <a:solidFill>
                  <a:srgbClr val="000000"/>
                </a:solidFill>
                <a:latin typeface="Gill Sans MT"/>
              </a:rPr>
              <a:t>6. Poremećaji u ponašanju i oštećenja mentalnog zdravlja</a:t>
            </a:r>
            <a:br>
              <a:rPr sz="1900"/>
            </a:br>
            <a:r>
              <a:rPr b="0" lang="hr-HR" sz="1900" spc="-1" strike="noStrike">
                <a:solidFill>
                  <a:srgbClr val="000000"/>
                </a:solidFill>
                <a:latin typeface="Gill Sans MT"/>
              </a:rPr>
              <a:t>7. Postojanje više vrsta teškoća u psihofizičkom razvoju.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UČENICI S TUR SE ŠKOLUJU PO RJEŠENJU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6" name=""/>
          <p:cNvSpPr txBox="1"/>
          <p:nvPr/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hr-HR" sz="1700" spc="-1" strike="noStrike">
                <a:solidFill>
                  <a:srgbClr val="000000"/>
                </a:solidFill>
                <a:latin typeface="Gill Sans MT"/>
              </a:rPr>
              <a:t>Redoviti program uz individualizirane postupke (čl. 5.) 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ili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hr-HR" sz="1700" spc="-1" strike="noStrike">
                <a:solidFill>
                  <a:srgbClr val="000000"/>
                </a:solidFill>
                <a:latin typeface="Gill Sans MT"/>
              </a:rPr>
              <a:t>Redoviti program uz prilagodbu sadržaja i individualizirane postupke (čl. 6.)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(navedeno se odnosi na REDOVITE PROGRAME!)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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Pravilnik o osnovnoškolskom i srednjoškolskom odgoju i obrazovanju učenika s teškoćama u razvoju (NN 24/15)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TEŠKOĆE U UČENJU I INFORMATIKA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Gill Sans MT"/>
              </a:rPr>
              <a:t>Proces (slijed) nastavnog sata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Gill Sans MT"/>
              </a:rPr>
              <a:t>Održavanje pažnje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Gill Sans MT"/>
              </a:rPr>
              <a:t>Posvećenost detaljima (koraci koji se moraju slijediti)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Gill Sans MT"/>
              </a:rPr>
              <a:t>Razumijevanje gradiva (umjesto „štrebanja”)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Gill Sans MT"/>
              </a:rPr>
              <a:t>Učenje koraka napamet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Gill Sans MT"/>
              </a:rPr>
              <a:t>Snalaženje na ekranu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Gill Sans MT"/>
              </a:rPr>
              <a:t>Korištenje opreme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Gill Sans MT"/>
              </a:rPr>
              <a:t>UVIJEK PROVJERAVATI I PO POTREBI VRATITI NA KORAK KOJI NIJE ODRAĐEN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IZRADA IOOP-A: KAKO I ZAŠTO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17080" indent="-21708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IOOP – individualizirani odgojno – obrazovni program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17080" indent="-21708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SPECIFIČAN za potrebe djeteta! 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17080" indent="-21708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ne možemo pretpostaviti da isti odgovara svakom djetetu s teškoćama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17080" indent="-21708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Izrađuje ga nastavnik/učitelj uz pomoć stručnog suradnika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17080" indent="-21708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Nastavnik/učitelj poznaje svoj nastavni predmet, proces učenja i očekivane ishode, a stručni suradnik poznaje potrebe učenika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17080" indent="-21708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Zamišljen kao program koji djetetu omogućuje praćenje nastave s obzirom na svoje potrebe, a nastavniku olakšava pripremu nastave vrednovanje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KAKO PISATI IOOP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2" name=""/>
          <p:cNvSpPr txBox="1"/>
          <p:nvPr/>
        </p:nvSpPr>
        <p:spPr>
          <a:xfrm>
            <a:off x="628560" y="1412640"/>
            <a:ext cx="7886880" cy="476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1400" indent="-2214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hr-HR" sz="1700" spc="-1" strike="noStrike">
                <a:solidFill>
                  <a:srgbClr val="000000"/>
                </a:solidFill>
                <a:latin typeface="Gill Sans MT"/>
              </a:rPr>
              <a:t>SPECIFIČNE METODE RADA: </a:t>
            </a: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nastavnik/učitelj dobije od stručnog suradnika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1400" indent="-2214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hr-HR" sz="1700" spc="-1" strike="noStrike">
                <a:solidFill>
                  <a:srgbClr val="009900"/>
                </a:solidFill>
                <a:latin typeface="Gill Sans MT"/>
              </a:rPr>
              <a:t>npr. omogućiti više vremena za aktivnost, podijeliti zadatke u više manjih cjelina, usmjeravati pažnju, izbjegavati prepisivanje, preferirati usmenu provjeru znanja…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1400" indent="-2214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hr-HR" sz="1700" spc="-1" strike="noStrike">
                <a:solidFill>
                  <a:srgbClr val="000000"/>
                </a:solidFill>
                <a:latin typeface="Gill Sans MT"/>
              </a:rPr>
              <a:t>INICIJALNA PROCJENA</a:t>
            </a: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: Kako nastavnik vidi učenika u odnosu na predmet? 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1400" indent="-2214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ff3300"/>
                </a:solidFill>
                <a:latin typeface="Gill Sans MT"/>
              </a:rPr>
              <a:t> </a:t>
            </a:r>
            <a:r>
              <a:rPr b="0" lang="hr-HR" sz="1700" spc="-1" strike="noStrike">
                <a:solidFill>
                  <a:srgbClr val="ff3300"/>
                </a:solidFill>
                <a:latin typeface="Gill Sans MT"/>
              </a:rPr>
              <a:t>TEMELJITI NA JAKIM STRANAMA!  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1400" indent="-2214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9900"/>
                </a:solidFill>
                <a:latin typeface="Gill Sans MT"/>
              </a:rPr>
              <a:t> </a:t>
            </a:r>
            <a:r>
              <a:rPr b="0" lang="hr-HR" sz="1700" spc="-1" strike="noStrike">
                <a:solidFill>
                  <a:srgbClr val="009900"/>
                </a:solidFill>
                <a:latin typeface="Gill Sans MT"/>
              </a:rPr>
              <a:t>npr.  motiviran je za sve sadržaje, primjenjuje sva naučena pravila, uspješno rješava različite vrste zadataka 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1400" indent="-2214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hr-HR" sz="1700" spc="-1" strike="noStrike">
                <a:solidFill>
                  <a:srgbClr val="000000"/>
                </a:solidFill>
                <a:latin typeface="Gill Sans MT"/>
              </a:rPr>
              <a:t>SADRŽAJ EDUKACIJE: </a:t>
            </a: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tema koja se obrađuje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1400" indent="-2214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hr-HR" sz="1700" spc="-1" strike="noStrike">
                <a:solidFill>
                  <a:srgbClr val="009900"/>
                </a:solidFill>
                <a:latin typeface="Gill Sans MT"/>
              </a:rPr>
              <a:t>npr. rad s ulaznim vrijednostima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1400" indent="-2214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hr-HR" sz="1700" spc="-1" strike="noStrike">
                <a:solidFill>
                  <a:srgbClr val="000000"/>
                </a:solidFill>
                <a:latin typeface="Gill Sans MT"/>
              </a:rPr>
              <a:t>CILJEVI: </a:t>
            </a: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koja znanja će usvojiti 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1400" indent="-2214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9900"/>
                </a:solidFill>
                <a:latin typeface="Gill Sans MT"/>
              </a:rPr>
              <a:t>npr. samostalno ili uz pomoć učitelja/učiteljice rješavati jednostavne probleme koji se koriste ulaznim i izlaznim vrijednostima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hr-HR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539640" y="692280"/>
            <a:ext cx="835344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Gill Sans MT"/>
              </a:rPr>
              <a:t>AKTIVNOSTI ZA UČENIKA/UČENICU: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9900"/>
                </a:solidFill>
                <a:latin typeface="Gill Sans MT"/>
              </a:rPr>
              <a:t> </a:t>
            </a:r>
            <a:r>
              <a:rPr b="0" lang="hr-HR" sz="2000" spc="-1" strike="noStrike">
                <a:solidFill>
                  <a:srgbClr val="009900"/>
                </a:solidFill>
                <a:latin typeface="Gill Sans MT"/>
              </a:rPr>
              <a:t>npr. učenik uz pomoć slaže jednostavan program služeći se naredbama ulaza, pridruživanja i izlaza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Gill Sans MT"/>
              </a:rPr>
              <a:t>STRATEGIJE PODRŠKE </a:t>
            </a: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(prilagodba metoda, sredstava, oblika, postupaka, zahtjeva): koje metode će nastavnik primijeniti kako bi obradio temu u skladu sa specifičnim potrebama tog učenika/c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npr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9900"/>
                </a:solidFill>
                <a:latin typeface="Gill Sans MT"/>
              </a:rPr>
              <a:t> </a:t>
            </a:r>
            <a:r>
              <a:rPr b="0" lang="hr-HR" sz="2000" spc="-1" strike="noStrike">
                <a:solidFill>
                  <a:srgbClr val="009900"/>
                </a:solidFill>
                <a:latin typeface="Gill Sans MT"/>
              </a:rPr>
              <a:t>osigurati kratkotrajan odmor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99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9900"/>
                </a:solidFill>
                <a:latin typeface="Gill Sans MT"/>
              </a:rPr>
              <a:t>prilagođavanje teksta (uvećanje i pojačanje tiska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99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9900"/>
                </a:solidFill>
                <a:latin typeface="Gill Sans MT"/>
              </a:rPr>
              <a:t>isticanja u tekstu (uokviravanje, podcrtavanje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9900"/>
                </a:solidFill>
                <a:latin typeface="Gill Sans MT"/>
              </a:rPr>
              <a:t> </a:t>
            </a:r>
            <a:r>
              <a:rPr b="0" lang="hr-HR" sz="2000" spc="-1" strike="noStrike">
                <a:solidFill>
                  <a:srgbClr val="009900"/>
                </a:solidFill>
                <a:latin typeface="Gill Sans MT"/>
              </a:rPr>
              <a:t>raščlanjivanje sadržaja na manje cjelin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PRIMJER ZA IOOP (5.R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1442520" y="1413000"/>
            <a:ext cx="701676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26080" indent="-22608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Opis teškoća: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6080" indent="-22608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Učenikove teškoće proizlaze iz potreba povezanih sa specifičnim teškoćama čitanja i pisanja te teško održivom pažnjom i koncentracijom.  Učenik ima pozitivan odnos prema šk. obvezama. Pamti slikovite primjere, usporedbe, slike itd.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6080" indent="-22608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Specifične metode rada: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6080" indent="-22608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Učeniku je potrebno individualno pristupiti. Jasno mu dati do znanja što se očekuje i provjeriti razumije li. Izbjegavati čitanje nepoznatog teksta. Prepisivanje svesti na minimum. Potrebno mu je češće usmjeravati pažnju na zadanu aktivnost. Omogućiti više vremena za zadatak. Složene zadatke potrebno je podijeliti u više manjih. Omogućiti mu kratke predahe više puta tijekom nastave. Poticati ga pohvalom i istaknuti ga u aktivnostima u kojima je uspješan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3T16:58:23Z</dcterms:created>
  <dc:creator>dsp</dc:creator>
  <dc:description/>
  <dc:language>en-US</dc:language>
  <cp:lastModifiedBy>Marta Klobučar</cp:lastModifiedBy>
  <dcterms:modified xsi:type="dcterms:W3CDTF">2019-12-16T11:14:00Z</dcterms:modified>
  <cp:revision>7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