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3986A9-AECB-491A-8972-E57DC8817C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B9CBEE-A6CF-4EBC-8C1C-CA01825E451B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8A61-85E4-4969-B430-10CF57F4B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DBED-8FC7-41F8-B357-E2849315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73B81C-9DC3-408F-A508-790A4934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35D448-6AE4-48D7-910E-2578C584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83C0A-8983-47D7-852B-E1F45567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A32F97-D1E2-4BB5-A146-AAB9F687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1B858E-C579-4EEE-88DB-9E90C020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FC0BD-08E5-410F-A185-0464A77A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36C3BE-04FE-41DE-919C-BD2759DC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7936C-0D0E-446A-979A-2A54612A9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6FD04-4E75-43D5-A370-D9692D453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38EBD4-0F5F-43A8-8F99-D3A4FD7FD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B2F7-E19E-4D72-99E4-03D1E8AF1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F203FC-2BD1-42A4-9EB3-A2A617C7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6A9FA1-D58E-4797-AD1B-8F4BB8FA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719F0D-0EF0-419B-8747-5FE2E5CF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86BA96-1338-4A06-BC0B-B64733E2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AE2B8F-30B4-4623-8840-2B135ABE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D8779D-1281-41E4-BDAF-85BB741A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C8D152-F1C2-4D52-96B5-35BE98EA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1BE93F-4606-4ECE-83D9-C5CEB5DE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4409E0-ADB1-4A76-9DDD-B8D5B0E0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69B57D-344C-4B33-ACB4-A8605A417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3C73-74CA-448E-9A18-60C0A631E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CCE4DB-1CC2-42EA-87B1-0327AAEFD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4FC56E-7925-49A4-B9FE-21B3A1700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830E65-09BE-402A-BED7-2ACE2365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24F2F9-1157-4DD1-A210-B10F61A2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D15D2-2FB5-4B04-A8F8-1EE6574A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7957CC-7EA9-4703-BED4-8E82FEA8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CE833-E63E-402C-AC94-9498E951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DE60F2-50E2-40AF-8F48-DFD13E76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2E6585-60F4-4EB4-ADB0-34DDA281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73911-5478-46F1-A07C-78BB7A04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559BB-40F3-4088-8B75-6DF8E8C5C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06FFBB-4FC8-4BD6-B359-47C73C34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D5D41-E753-4358-B8C0-FD4315DF0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3E6B59-47C1-449D-A9BF-9C53DDF2C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2BE1-F256-4388-AF49-AE27369A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01838-4813-4253-ABF0-AA78D3A5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6C616-889E-473B-B9CC-20902F59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10F2-2FC8-426B-94F2-F6F3B557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17F4-5909-428A-9FE5-AC61FA41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60D7-502F-4277-AB5B-B5AB25CB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9958-2BA4-4EBE-8E07-D64762BB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F801-1932-4324-925A-FB946E7E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B3EF-CA68-4C15-A3F2-797793FC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8A561-DC89-4CC2-886C-1A2BC7E8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5D3C-9BCF-4B56-AEE9-1C55838A6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BBFB-1321-44C4-9BD5-3A39B4DCA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10A6A-7519-4A98-ABF7-96091A49C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6C669-950B-4962-B408-75F303CE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73C6B-C7C2-4AB3-8920-66B31F63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532FE-3734-45F9-ACEA-6AC01264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0F2B1-3A8B-4D44-8F2A-478C5AE1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D636-4A11-469D-B38B-5D0F1300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2ADB3-50CD-49D7-B663-C781F014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2AE3B-9BB1-40F7-970B-660CC62D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E668F-6F82-4826-A407-B2CDAD19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D6514-D634-41D8-A229-0C06175E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7558C-F4FA-4A75-9C92-FF7713F7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2052C-3720-4F47-98E5-A0BBD2D4B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61FD0-CFCD-4FB8-896F-02D79DF29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7FF50-04C2-4AF3-A304-AD1F963F6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CA835-821A-4CB0-9392-9091CAF0B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480E7-D452-43FE-A46C-79485977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4AAE-E922-44D4-822D-ADEF40E7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C6FED-3541-4569-A847-44ACDF9E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A7EBA-91B4-4E67-9F0B-00E200AF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3DD2F-D4B9-4BAA-B01F-931E0F3E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7788E-A363-484A-9557-D739B156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E6CC5-012B-4355-852B-DC8E650A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29C25-15C5-49CB-B4A0-F2EB2F21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F15C1-857E-4547-89A4-DD4E599D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4B7E5-4C04-4B13-A6E2-BBFE49125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4157A-DC1E-40CA-8221-D81CAB9EE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FF790-6D06-443A-8E58-4F0BC38DE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7DAC-F5D3-476F-AFC5-57E1763D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0C570-04FE-4838-823F-5AB75E3E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8815F-1A63-47BE-9FB3-8DC8B231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0BD6B-3B3F-4192-8B12-A9082A53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5998B-2212-4420-A4CA-7C3366ED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3BD87-283D-4A96-BC08-68F323AA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C68F1-0271-490C-94D9-E7D15E11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B0A4B-F739-4BB9-A575-1DCD0A46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B63D9-D691-43B0-8312-C444B5D6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812DB-01DC-470A-BE83-D58FF5D2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0ED61-C9AC-4D15-BA26-4DA1E596C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619F-2F5A-4CA1-B535-C8367DB6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049D8-6FD0-4D1A-BDF7-FC5A8D115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70867-E3A2-4039-89A8-3C9AF91FA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ACF49-978E-45CF-BD37-E0C68549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B8014-530C-4CDB-9916-3AE3BB4C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DCFD2-D3C3-4A51-9FF9-D65B1281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44182-9C81-4091-83B0-01F2EC5D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912B3-8946-46B2-94AE-4120362A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2CCAD-1990-414F-8282-A3F8E272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28222-21F2-43DB-8049-3841FF29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D670A-5DF3-4D3B-A82C-BC4D540D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4885-831A-4E15-B2B0-0893352A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C9FD5-81C6-4264-ACB2-1C108B66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1463B-1105-402B-86BB-21A843A5E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32E7C-893B-45E0-A98E-5F88D04BF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3A616-B7FE-44B2-B078-2E792FFC9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F3117-FAE0-4EF2-9182-89D4B191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771BA-3244-4E50-AA53-FF858FC2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6BB7E-92C2-418E-8192-7F5E3BAB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AE646-8565-4DA9-816F-741C8462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EE1D4-BC7B-4BC3-B10E-6E8168AF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6E6D6-6A7D-41DC-B856-1697C6C9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ECC4-A392-40E9-B828-A2180086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5F7F3-26E6-4AA9-9BAC-D9004AFD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80C97-90A1-4113-86DB-2FCADC54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E439F-7054-49AD-BAEF-9398C581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30221-DD76-4302-8AB4-B4399BF8D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E120D-CAD3-4363-85FA-76B2C9825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FEE64-8D75-4D4A-A21C-A66413883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11366-AE4F-4270-92B0-19B41FC0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0E639-CBD0-475E-B3F5-742336B5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029F0-9CAA-495D-87C0-7862B5CE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6A97F-0DD3-41DA-9340-917C5019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94D7-D7C0-49D0-B327-BE6A3A55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2F320-8FEB-4F6A-B4B5-CC781332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525C9-4248-4176-9B2B-BD251403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DE56F-7844-4AAE-9C1D-0768E40D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DC653-8F53-4BC9-9235-9D966E3C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9DA8E-2D3B-4327-94B0-27F67559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38EA0-FB85-47FF-8908-E02E6DD2D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A99B9-6F8D-4711-93EF-53BA60B05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E44A8-69C3-4849-9516-69EC69299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A019F7-3A44-438C-B2A1-A8DF2010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0257CD-0D8F-4730-9022-F9E6913E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EB8E8B-AC46-4099-826F-93EA9DC2F3FC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3155EE-27C5-4250-9910-3C4AD6BBCB51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20E354-B986-4010-B498-40DD4FDAE2B7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3A9F41-8409-4C00-B4ED-47E3E193A0E6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57A7DC-F327-4585-B675-89C288BF2BCF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3A9333-6C94-4816-B77C-D1295293069F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7D755E-6799-4339-9D05-563B87FB317A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BFE13F-2C47-4F30-AB8D-8A7A305DA19E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6C51C0-36DA-4586-A24A-2BC7D49114AD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9BE7B7-10F3-41E2-8F55-03F939D1907F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4640" y="495000"/>
                <a:ext cx="3310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2360" y="808200"/>
                <a:ext cx="2718720" cy="42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40CB97-8D72-44D4-8244-F4D1AFD7C945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3889440" cy="129672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900" spc="-1" strike="noStrike">
                <a:solidFill>
                  <a:srgbClr val="9973ff"/>
                </a:solidFill>
                <a:latin typeface="Gill Sans MT"/>
              </a:rPr>
              <a:t>ŽSV IZ INFORMATIKE I RAČUNALSTVA ZADARSKE ŽUPANIJE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773440" y="2420640"/>
            <a:ext cx="3743280" cy="2663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RAD S UČENICIMA S TEŠKOĆAM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RTA KLOBUČAR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G.PAED.SOC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10920" y="804600"/>
            <a:ext cx="74041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10920" y="1989000"/>
            <a:ext cx="74041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ADRŽAJ EDUKACIJE: Operativni sustav Windows 1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CILJEVI: Učenik prepoznaje i uz pomoć može opisati neke temeljne programe koji su dio operacijskog sustav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AKTIVNOSTI:  uz pomoć nastavnika prilagođava korisničko sučelje operacijskog sustava svojim potreb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TRATEGIJE PODRŠKE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smjeravati njegovu pozornost na nastavne sadržaje, provjeravati ga individualno, osigurati kratkotrajan odmor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rilagođavanje teksta (uvećanje i pojačanje tiska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sticanja u tekstu (uokviravanje, podcrtavanje)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raščlanjivanje sadržaja na manje cjelin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Svaki učenik je poseba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spjeh ovisi o puno čimbenika, posebice o odnosu prema školskim obveza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Djeca s istom teškoćom ne moraju imati iste potrebe u nastav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Ocjenjuje se trud!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df2f5"/>
            </a:gs>
            <a:gs pos="100000">
              <a:srgbClr val="f2b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HVALA NA PAŽNJI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2" name="Picture 2" descr="tweet picture"/>
          <p:cNvPicPr/>
          <p:nvPr/>
        </p:nvPicPr>
        <p:blipFill>
          <a:blip r:embed="rId1"/>
          <a:stretch/>
        </p:blipFill>
        <p:spPr>
          <a:xfrm>
            <a:off x="1692360" y="2060640"/>
            <a:ext cx="604836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AJČEŠĆE TEŠKOĆ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1719000"/>
            <a:ext cx="905976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čitanja i pisanja (disleksija i disgrafij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pažnje i koncentraci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Intelektu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Emocion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2" name="Picture 9" descr="Slikovni rezultat za kids"/>
          <p:cNvPicPr/>
          <p:nvPr/>
        </p:nvPicPr>
        <p:blipFill>
          <a:blip r:embed="rId1"/>
          <a:stretch/>
        </p:blipFill>
        <p:spPr>
          <a:xfrm>
            <a:off x="3203640" y="3068640"/>
            <a:ext cx="512136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RIJENTACIJSKA LISTA TEŠKOĆA (NN 24/15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Skupine vrsta teškoća su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1. Oštećenja vid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2. Oštećenja sluh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3. Oštećenja jezično-govorne-glasovne komunikacije i specifične teškoće u učenju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4. Oštećenja organa i organskih sustav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5. Intelektualne teškoće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6. Poremećaji u ponašanju i oštećenja mentalnog zdravlj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7. Postojanje više vrsta teškoća u psihofizičkom razvoju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UČENICI S TUR SE ŠKOLUJU PO RJEŠENJU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individualizirane postupke (čl. 5.)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li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prilagodbu sadržaja i individualizirane postupke (čl. 6.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(navedeno se odnosi na REDOVITE PROGRAME!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Pravilnik o osnovnoškolskom i srednjoškolskom odgoju i obrazovanju učenika s teškoćama u razvoju (NN 24/15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EŠKOĆE U UČENJU I INFORMATI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roces (slijed) nastavnog sat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Održavanje pažnj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osvećenost detaljima (koraci koji se moraju slijediti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Razumijevanje gradiva (umjesto „štrebanja”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čenje koraka napame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Snalaženje na ekran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Korištenje oprem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VIJEK PROVJERAVATI I PO POTREBI VRATITI NA KORAK KOJI NIJE ODRAĐEN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ZRADA IOOP-A: KAKO I ZAŠTO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OOP – individualizirani odgojno – obrazovni program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SPECIFIČAN za potrebe djeteta!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e možemo pretpostaviti da isti odgovara svakom djetetu s teškoća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zrađuje ga nastavnik/učitelj uz pomoć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poznaje svoj nastavni predmet, proces učenja i očekivane ishode, a stručni suradnik poznaje potrebe uče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Zamišljen kao program koji djetetu omogućuje praćenje nastave s obzirom na svoje potrebe, a nastavniku olakšava pripremu nastave vrednovan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AKO PISATI IOOP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28560" y="1412640"/>
            <a:ext cx="788688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dobije od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omogućiti više vremena za aktivnost, podijeliti zadatke u više manjih cjelina, usmjeravati pažnju, izbjegavati prepisivanje, preferirati usmenu provjeru znanja…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INICIJALNA PROCJENA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: Kako nastavnik vidi učenika u odnosu na predmet?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TEMELJITI NA JAKIM STRANAMA! 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 motiviran je za sve sadržaje, primjenjuje sva naučena pravila, uspješno rješava različite vrste zadataka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ADRŽAJ EDUKACIJE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tema koja se obrađu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rad s u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CILJEVI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koja znanja će usvojiti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samostalno ili uz pomoć učitelja/učiteljice rješavati jednostavne probleme koji se koriste ulaznim i iz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hr-H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39640" y="692280"/>
            <a:ext cx="8353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AKTIVNOSTI ZA UČENIKA/UČENICU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npr. učenik uz pomoć slaže jednostavan program služeći se naredbama ulaza, pridruživanja i izlaz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STRATEGIJE PODRŠKE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(prilagodba metoda, sredstava, oblika, postupaka, zahtjeva): koje metode će nastavnik primijeniti kako bi obradio temu u skladu sa specifičnim potrebama tog učenika/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np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osigurati kratkotrajan odm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prilagođavanje teksta (uvećanje i pojačanje tisk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isticanja u tekstu (uokviravanje, podcrtavanj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raščlanjivanje sadržaja na manje cjel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IMJER ZA IOOP (5.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442520" y="1413000"/>
            <a:ext cx="7016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Opis teškoć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ove teškoće proizlaze iz potreba povezanih sa specifičnim teškoćama čitanja i pisanja te teško održivom pažnjom i koncentracijom.  Učenik ima pozitivan odnos prema šk. obvezama. Pamti slikovite primjere, usporedbe, slike itd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u je potrebno individualno pristupiti. Jasno mu dati do znanja što se očekuje i provjeriti razumije li. Izbjegavati čitanje nepoznatog teksta. Prepisivanje svesti na minimum. Potrebno mu je češće usmjeravati pažnju na zadanu aktivnost. Omogućiti više vremena za zadatak. Složene zadatke potrebno je podijeliti u više manjih. Omogućiti mu kratke predahe više puta tijekom nastave. Poticati ga pohvalom i istaknuti ga u aktivnostima u kojima je uspješan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6:58:23Z</dcterms:created>
  <dc:creator>dsp</dc:creator>
  <dc:description/>
  <dc:language>en-US</dc:language>
  <cp:lastModifiedBy>Marta Klobučar</cp:lastModifiedBy>
  <dcterms:modified xsi:type="dcterms:W3CDTF">2019-12-16T11:14:00Z</dcterms:modified>
  <cp:revision>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