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83FBD4-A923-49BA-AB4F-6213F77D4D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3C703A-D074-4602-8CDA-725C2EFC42B6}" type="slidenum">
              <a:rPr b="0" lang="en-US" sz="1200" spc="-1" strike="noStrike">
                <a:solidFill>
                  <a:srgbClr val="000000"/>
                </a:solidFill>
                <a:latin typeface="Comic Sans MS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7494-C5FF-4A81-AC19-725E4D3B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2C82-C1D0-4EC7-AB28-F9CDDC4AA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F14DB1-0EE7-4DBD-99E0-276D6A48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5BDFD-29D1-4C8A-8645-101DDF98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0BC1A-2FB6-4AF6-ADAA-AD7E2168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4A811-5F83-46F4-A0AF-86DC2EF30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7119A6-035E-4529-93E5-E9A29A2C3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9B2EA-341C-4E4C-B1F2-B44DD7A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A57C44-CBB2-45F4-BBA4-C525AECF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34CA01-DBCC-4D3E-8BC5-BEC53F5C6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177410-8E24-4BBD-B0FD-44690F83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C28DEF-0E68-41F0-90D9-5841C1C38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16A5-AE9F-4763-AB9A-36CC2066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A5CB5C-421D-44B0-973C-DF9DB2C5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AEC6A2-2338-4CE9-A096-9AA48A464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D777F2-3911-4C94-86C6-51F3BDB1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D9F307-6032-4925-830B-541DE4E5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62C657-B56A-4A1A-91D1-D132316EE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0F4900-C7BE-4FE0-971E-7AB541549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393F10-DEBC-4966-A14E-8C290948A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6A9DF-775C-48C6-A762-EA3C345C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FC112B-2971-4F67-8FA7-C6252C3F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8219C-F86F-4BFE-8F0B-8B701F4D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044-C77D-480D-869C-A0206BEA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642105-E57C-4E7C-BAE3-B3EC03165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D4F65B-ABB3-48BE-B3D9-410753560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D90C50-6F5D-4C0B-ABEE-065DAEE4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145048-9B1D-452A-914B-93CE5957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E4B60-C3E0-4D77-8280-2E0E221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353B15-43D5-4B16-846B-307F34DB6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DA0587-8BFF-4E64-88D1-E71629117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25990-8731-42B9-AB5B-FD8FD1E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41DC42-519C-42B0-9413-0CC3797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7E1D56-DBAD-41B3-9598-5907DBAE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3EBF2-FD26-4EFB-BB29-5EE4DC5A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505697-73E2-4849-A7BD-3B769736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F27CA1-6012-4FF8-9064-E63C3E191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9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13B0E1-B418-4AE3-AAD9-760299C1E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61F0C-7AB5-4277-B531-4BBAB6193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27C84-3214-48AE-9DC4-E9530EF6D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83997-1A03-42CF-AECA-50F6CDC7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75911-A0B1-4D6B-93C0-D43588AC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40ECD-745E-4CA0-8220-95A2AEEB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6128F-2D2E-4F56-9FBC-5F04B4E97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712-8ECE-49B8-B306-D281DDB80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ED08-DD11-437E-ACF0-2BB1C868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26E8-8797-4EFD-ADFE-B37CB79B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FC95-BCC3-41B2-B8C7-86E88FAC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AA8E-BDEE-41B0-A32A-6E0E5D3B8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709B2-DE19-4780-9D2B-6B576F6DD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20F4-1B11-439D-B76E-3EC7B0C3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EE61-9A6B-40DC-80BD-62C3C77E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E97637-3904-4D24-AF1B-96C47ED6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99D9B-B06E-4216-8665-ADF69825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7436-9A9C-4BA3-AF24-577F13365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C920-EB23-4BC1-B1A9-5797482F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FCE0D-3F8A-460A-8EBB-D51C668E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D26D9-EE26-4683-BA7B-5E18DFAD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51DAEC-2E63-48C8-B5DD-209881B02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59A36-ABD0-4C4D-B2BB-F9ACA07D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34386F-6F52-4308-A905-56218AC69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9B53-59E6-4034-AF63-AEE156F02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4D080-D99A-44C1-A2BA-8657C49E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9BD7A-B9A3-4DC4-B7B8-5C2D90B41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D31DDD-0E19-418D-8312-2BA820E6D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BA261-4CC1-4314-B01E-10C2F355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02F-CEBF-40F4-9BEF-C3FD3F896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7CFD70-9518-4B67-AF0D-A463F1AE4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31326-196E-498E-8934-6986C8465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64961C-17DF-479E-91BF-1464E0F32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72031-6641-4050-8F63-2D9313524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E92DAB-5515-4D3F-8370-908FF26A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4CC07A-BD4C-4F7F-A72B-3032415F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E6066A-5A4D-4B41-AB74-BB930FED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97A72-0E83-4941-8A4F-18FA4D30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82F8C-FEF9-438D-BF9D-2D7101070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29D67-447F-4CB2-AFE7-097788FBF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F6E6-10AA-45C6-B3E8-80B754634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F95417-25CD-4DC0-8AA1-0315B9B0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942F4-896C-42F3-A8E2-CD40138B9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42A80-0010-4557-ACBF-CF41FF66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4564CE-6516-4DB4-A5A1-C1940AB4B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5E5A6-CB8D-4DC5-A3A1-E4C1E05A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52D18-6B47-44EB-A324-4B260132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378907-E05A-48AD-8FBB-9F45AA51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9D54DD-1DB2-43AC-916B-DDEC6950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4B3ED-519C-4F79-8C96-2D42EE9E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37F55E-49B2-42BA-991D-A586613AF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437F-3043-401B-9CE4-8BAB731F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F4CE89-CCDB-4DBA-8DF9-2DABF1503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6A6FD3-D7E9-481E-9774-8DFEB79D6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11D2FF-D286-411B-9ED0-7AA0ABB47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69CFA-1448-4930-AF0C-68C1855E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B355AF-B837-4F32-AB3B-C7C8BEEF0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8B8C2F-EC20-4469-B009-60C64F95E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26A822-90F3-4870-A81A-38A0F6AB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FBBFB-5BF3-4BCC-AFB0-07EADB32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6C8B6-D055-405D-BF5D-90783504D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6185E-9BFF-4A6F-9C5E-E2EA0ED2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0D-8F32-469D-8742-67DE3607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E946D2-1A75-4F6F-B8C3-FE389AB3A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ACE4-1BBE-4DB2-AA8E-8971E18A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13F489-DAEF-4375-87B2-8DB2C6EF2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39324-02D1-4D45-AAA6-94ED6E09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3B3C9E-C6E8-41A7-B163-A7FEA7FC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2DE9D-5AF2-4946-9D7C-66F8DE7B4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A472-14FC-4E0D-9A31-163EAFF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29396C-7802-4E23-AE55-EC0B4F5D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4FE1F-B03E-4ABC-99B8-DC60ECA6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5B54A-9203-427F-8C4B-94F8276BA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CD32-E25C-4FFB-9588-E44FF8505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D8D3E-C1E3-4FBA-A839-E1DF1DA50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A318C-8304-4134-ADAF-BF3C4FF96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14B2-792A-47BA-95A1-B067F7F7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5E1593-621B-426F-8BB8-E13A9DB1A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A265B-67EB-4FDD-BE1B-BF03131E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5B7C8-82AF-43C0-BA6B-05AA5826C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B8273C-D1DE-4D38-9C61-D9B7AC10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BE0F2-D02C-4D0C-B8B9-BD474490E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103605-8780-43A7-9650-725623C8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2B987-8A3F-4BC0-98A0-A525FE6D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505C-864D-4BB5-AE1A-EB8D5877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1442520" y="804600"/>
            <a:ext cx="6572520" cy="48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7BCCEE-F67D-4B62-B24D-B8FFDEE5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46E90D-CA13-424C-917E-2078FB6CE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31A148-E54D-4222-8623-0C0E9CC7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5F3F2-27B9-44C9-A7B5-28538FBB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1442520" y="3817800"/>
            <a:ext cx="657252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7C6B3-242B-4C7A-932E-4CA6BDF9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10680" y="201564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44252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/>
          </p:nvPr>
        </p:nvSpPr>
        <p:spPr>
          <a:xfrm>
            <a:off x="4810680" y="3817800"/>
            <a:ext cx="320724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56AD9-8E98-4098-8A36-6F0916C29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366480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887080" y="201564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144252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/>
          </p:nvPr>
        </p:nvSpPr>
        <p:spPr>
          <a:xfrm>
            <a:off x="366480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7"/>
          <p:cNvSpPr>
            <a:spLocks noGrp="1"/>
          </p:cNvSpPr>
          <p:nvPr>
            <p:ph/>
          </p:nvPr>
        </p:nvSpPr>
        <p:spPr>
          <a:xfrm>
            <a:off x="5887080" y="3817800"/>
            <a:ext cx="21160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43CFD-70E0-4625-A4BD-7B7DC7CC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BAB79F-2943-445B-B4D4-A7FBAB263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7E8CE9-B8EA-426F-9A02-89A6E9A8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A0AEC1-B522-43E1-BA8C-8F0B1CDE9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A2AD98-2E46-4026-9F9B-619E30497C7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2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13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C0F7D7-2233-4336-B8E6-98D5242FD69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7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58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Straight Connector 14"/>
          <p:cNvSpPr/>
          <p:nvPr/>
        </p:nvSpPr>
        <p:spPr>
          <a:xfrm>
            <a:off x="6918480" y="798480"/>
            <a:ext cx="0" cy="466092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 type="dt" idx="31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 type="ftr" idx="32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 type="sldNum" idx="33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029432-2328-48F8-983F-02CB6D173F8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Straight Connector 14"/>
          <p:cNvSpPr/>
          <p:nvPr/>
        </p:nvSpPr>
        <p:spPr>
          <a:xfrm>
            <a:off x="2395440" y="3529080"/>
            <a:ext cx="56199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395080" y="328680"/>
            <a:ext cx="30877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434600" y="798480"/>
            <a:ext cx="8017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8B5C40-984F-4C9C-8142-E8111C1EC76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9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2F0271-575D-4DBC-BCF3-64F52A925A91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3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Straight Connector 14"/>
          <p:cNvSpPr/>
          <p:nvPr/>
        </p:nvSpPr>
        <p:spPr>
          <a:xfrm>
            <a:off x="1442880" y="3805200"/>
            <a:ext cx="561816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CE763D-40CD-4AD3-826B-EB228BBD7EAF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18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Straight Connector 32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3B6296-E855-418D-8989-7657C8D61B69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2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Straight Connector 35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dt" idx="16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ftr" idx="17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sldNum" idx="18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34F456-4836-44F7-B33D-CC88AEB1AF3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7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27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" name="Straight Connector 31"/>
          <p:cNvSpPr/>
          <p:nvPr/>
        </p:nvSpPr>
        <p:spPr>
          <a:xfrm>
            <a:off x="1442880" y="1847880"/>
            <a:ext cx="657252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dt" idx="19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ftr" idx="20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 type="sldNum" idx="21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504F97-9E07-475A-80B0-B5F3DCC34BFA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15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16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Straight Connector 16"/>
          <p:cNvSpPr/>
          <p:nvPr/>
        </p:nvSpPr>
        <p:spPr>
          <a:xfrm>
            <a:off x="1441440" y="3205080"/>
            <a:ext cx="242424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dt" idx="22"/>
          </p:nvPr>
        </p:nvSpPr>
        <p:spPr>
          <a:xfrm>
            <a:off x="5646600" y="330120"/>
            <a:ext cx="23688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ftr" idx="23"/>
          </p:nvPr>
        </p:nvSpPr>
        <p:spPr>
          <a:xfrm>
            <a:off x="1442880" y="328680"/>
            <a:ext cx="403416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 type="sldNum" idx="24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CBEA93-1005-4E8D-B29F-C2F007744294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9"/>
          <p:cNvSpPr/>
          <p:nvPr/>
        </p:nvSpPr>
        <p:spPr>
          <a:xfrm>
            <a:off x="0" y="2016000"/>
            <a:ext cx="9144000" cy="4079880"/>
          </a:xfrm>
          <a:prstGeom prst="rect">
            <a:avLst/>
          </a:prstGeom>
          <a:gradFill rotWithShape="0">
            <a:gsLst>
              <a:gs pos="0">
                <a:srgbClr val="dfdbd5">
                  <a:alpha val="0"/>
                </a:srgbClr>
              </a:gs>
              <a:gs pos="100000">
                <a:srgbClr val="dfdbd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0" name="Picture 11" descr=""/>
          <p:cNvPicPr/>
          <p:nvPr/>
        </p:nvPicPr>
        <p:blipFill>
          <a:blip r:embed="rId3"/>
          <a:srcRect l="12501" t="1550" r="12501" b="-1526"/>
          <a:stretch/>
        </p:blipFill>
        <p:spPr>
          <a:xfrm>
            <a:off x="0" y="6095880"/>
            <a:ext cx="9144000" cy="774720"/>
          </a:xfrm>
          <a:prstGeom prst="rect">
            <a:avLst/>
          </a:prstGeom>
          <a:ln w="0">
            <a:noFill/>
          </a:ln>
        </p:spPr>
      </p:pic>
      <p:sp>
        <p:nvSpPr>
          <p:cNvPr id="361" name="Straight Connector 12"/>
          <p:cNvSpPr/>
          <p:nvPr/>
        </p:nvSpPr>
        <p:spPr>
          <a:xfrm>
            <a:off x="0" y="6100920"/>
            <a:ext cx="9144000" cy="0"/>
          </a:xfrm>
          <a:prstGeom prst="line">
            <a:avLst/>
          </a:prstGeom>
          <a:ln w="12600">
            <a:solidFill>
              <a:srgbClr val="000001">
                <a:alpha val="2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2" name="Group 12"/>
          <p:cNvGrpSpPr/>
          <p:nvPr/>
        </p:nvGrpSpPr>
        <p:grpSpPr>
          <a:xfrm>
            <a:off x="4995720" y="482760"/>
            <a:ext cx="3511800" cy="5148000"/>
            <a:chOff x="4995720" y="482760"/>
            <a:chExt cx="3511800" cy="5148000"/>
          </a:xfrm>
        </p:grpSpPr>
        <p:grpSp>
          <p:nvGrpSpPr>
            <p:cNvPr id="363" name="Rectangle 13"/>
            <p:cNvGrpSpPr/>
            <p:nvPr/>
          </p:nvGrpSpPr>
          <p:grpSpPr>
            <a:xfrm>
              <a:off x="4995720" y="482760"/>
              <a:ext cx="3511800" cy="5148000"/>
              <a:chOff x="4995720" y="482760"/>
              <a:chExt cx="3511800" cy="5148000"/>
            </a:xfrm>
          </p:grpSpPr>
          <p:pic>
            <p:nvPicPr>
              <p:cNvPr id="364" name="Rectangle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4995720" y="482760"/>
                <a:ext cx="3511800" cy="51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084640" y="495000"/>
                <a:ext cx="3310920" cy="488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  <p:grpSp>
          <p:nvGrpSpPr>
            <p:cNvPr id="366" name="Rectangle 14"/>
            <p:cNvGrpSpPr/>
            <p:nvPr/>
          </p:nvGrpSpPr>
          <p:grpSpPr>
            <a:xfrm>
              <a:off x="5346360" y="771840"/>
              <a:ext cx="2793600" cy="4326840"/>
              <a:chOff x="5346360" y="771840"/>
              <a:chExt cx="2793600" cy="4326840"/>
            </a:xfrm>
          </p:grpSpPr>
          <p:pic>
            <p:nvPicPr>
              <p:cNvPr id="367" name="Rectangle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5346360" y="771840"/>
                <a:ext cx="2793600" cy="432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5382360" y="808200"/>
                <a:ext cx="2718720" cy="425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Gill Sans MT"/>
                </a:endParaRPr>
              </a:p>
            </p:txBody>
          </p:sp>
        </p:grpSp>
      </p:grpSp>
      <p:sp>
        <p:nvSpPr>
          <p:cNvPr id="369" name="Straight Connector 30"/>
          <p:cNvSpPr/>
          <p:nvPr/>
        </p:nvSpPr>
        <p:spPr>
          <a:xfrm>
            <a:off x="1441440" y="3143160"/>
            <a:ext cx="3241800" cy="0"/>
          </a:xfrm>
          <a:prstGeom prst="line">
            <a:avLst/>
          </a:prstGeom>
          <a:ln w="31680">
            <a:solidFill>
              <a:srgbClr val="b71e4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12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1436400" y="5470560"/>
            <a:ext cx="32526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1437840" y="318600"/>
            <a:ext cx="32511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487080" y="798480"/>
            <a:ext cx="795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800" spc="-1" strike="noStrike">
                <a:solidFill>
                  <a:srgbClr val="b71e4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5F4298-09C4-489B-B299-F43D6005F40E}" type="slidenum">
              <a:rPr b="0" lang="en-US" sz="2800" spc="-1" strike="noStrike">
                <a:solidFill>
                  <a:srgbClr val="b71e42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042920" y="692280"/>
            <a:ext cx="3889440" cy="1296720"/>
          </a:xfrm>
          <a:prstGeom prst="rect">
            <a:avLst/>
          </a:prstGeom>
          <a:noFill/>
          <a:ln w="0">
            <a:noFill/>
          </a:ln>
        </p:spPr>
        <p:txBody>
          <a:bodyPr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900" spc="-1" strike="noStrike">
                <a:solidFill>
                  <a:srgbClr val="9973ff"/>
                </a:solidFill>
                <a:latin typeface="Gill Sans MT"/>
              </a:rPr>
              <a:t>ŽSV IZ INFORMATIKE I RAČUNALSTVA ZADARSKE ŽUPANIJE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2773440" y="2420640"/>
            <a:ext cx="3743280" cy="26636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Gill Sans MT"/>
              </a:rPr>
              <a:t>RAD S UČENICIMA S TEŠKOĆAMA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RTA KLOBUČAR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Gill Sans MT"/>
              </a:rPr>
              <a:t>MAG.PAED.SOC.</a:t>
            </a: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10920" y="804600"/>
            <a:ext cx="74041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610920" y="1989000"/>
            <a:ext cx="7404120" cy="45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ADRŽAJ EDUKACIJE: Operativni sustav Windows 10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CILJEVI: Učenik prepoznaje i uz pomoć može opisati neke temeljne programe koji su dio operacijskog sustava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AKTIVNOSTI:  uz pomoć nastavnika prilagođava korisničko sučelje operacijskog sustava svojim potrebama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TRATEGIJE PODRŠKE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smjeravati njegovu pozornost na nastavne sadržaje, provjeravati ga individualno, osigurati kratkotrajan odmor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prilagođavanje teksta (uvećanje i pojačanje tiska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isticanja u tekstu (uokviravanje, podcrtavanje)</a:t>
            </a: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, raščlanjivanje sadržaja na manje cjelin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ZAKLJUČAK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Svaki učenik je poseba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Uspjeh ovisi o puno čimbenika, posebice o odnosu prema školskim obvezam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Djeca s istom teškoćom ne moraju imati iste potrebe u nastavi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Ocjenjuje se trud!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df2f5"/>
            </a:gs>
            <a:gs pos="100000">
              <a:srgbClr val="f2b2c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HVALA NA PAŽNJI!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2" name="Picture 2" descr="tweet picture"/>
          <p:cNvPicPr/>
          <p:nvPr/>
        </p:nvPicPr>
        <p:blipFill>
          <a:blip r:embed="rId1"/>
          <a:stretch/>
        </p:blipFill>
        <p:spPr>
          <a:xfrm>
            <a:off x="1692360" y="2060640"/>
            <a:ext cx="604836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NAJČEŠĆE TEŠKOĆE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0" y="1719000"/>
            <a:ext cx="9059760" cy="51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čitanja i pisanja (disleksija i disgrafij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Teškoće pažnje i koncentracij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Intelektu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Emocionalne teškoć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2" name="Picture 9" descr="Slikovni rezultat za kids"/>
          <p:cNvPicPr/>
          <p:nvPr/>
        </p:nvPicPr>
        <p:blipFill>
          <a:blip r:embed="rId1"/>
          <a:stretch/>
        </p:blipFill>
        <p:spPr>
          <a:xfrm>
            <a:off x="3203640" y="3068640"/>
            <a:ext cx="5121360" cy="32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ORIJENTACIJSKA LISTA TEŠKOĆA (NN 24/15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14560" indent="-21456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Skupine vrsta teškoća su: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14560" indent="-21456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1. Oštećenja vid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2. Oštećenja sluh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3. Oštećenja jezično-govorne-glasovne komunikacije i specifične teškoće u učenju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4. Oštećenja organa i organskih sustav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5. Intelektualne teškoće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6. Poremećaji u ponašanju i oštećenja mentalnog zdravlja</a:t>
            </a:r>
            <a:br>
              <a:rPr sz="1900"/>
            </a:br>
            <a:r>
              <a:rPr b="0" lang="hr-HR" sz="1900" spc="-1" strike="noStrike">
                <a:solidFill>
                  <a:srgbClr val="000000"/>
                </a:solidFill>
                <a:latin typeface="Gill Sans MT"/>
              </a:rPr>
              <a:t>7. Postojanje više vrsta teškoća u psihofizičkom razvoju.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UČENICI S TUR SE ŠKOLUJU PO RJEŠENJU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individualizirane postupke (čl. 5.)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li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Redoviti program uz prilagodbu sadržaja i individualizirane postupke (čl. 6.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(navedeno se odnosi na REDOVITE PROGRAME!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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Pravilnik o osnovnoškolskom i srednjoškolskom odgoju i obrazovanju učenika s teškoćama u razvoju (NN 24/15)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TEŠKOĆE U UČENJU I INFORMATIKA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roces (slijed) nastavnog sat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Održavanje pažnj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Posvećenost detaljima (koraci koji se moraju slijediti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Razumijevanje gradiva (umjesto „štrebanja”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čenje koraka napamet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Snalaženje na ekranu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Korištenje oprem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0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400" spc="-1" strike="noStrike">
                <a:solidFill>
                  <a:srgbClr val="000000"/>
                </a:solidFill>
                <a:latin typeface="Gill Sans MT"/>
              </a:rPr>
              <a:t>UVIJEK PROVJERAVATI I PO POTREBI VRATITI NA KORAK KOJI NIJE ODRAĐEN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IZRADA IOOP-A: KAKO I ZAŠTO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1442520" y="2015640"/>
            <a:ext cx="6572520" cy="34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OOP – individualizirani odgojno – obrazovni program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SPECIFIČAN za potrebe djeteta!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e možemo pretpostaviti da isti odgovara svakom djetetu s teškoća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Izrađuje ga nastavnik/učitelj uz pomoć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poznaje svoj nastavni predmet, proces učenja i očekivane ishode, a stručni suradnik poznaje potrebe uče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17080" indent="-21708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Zamišljen kao program koji djetetu omogućuje praćenje nastave s obzirom na svoje potrebe, a nastavniku olakšava pripremu nastave vrednovan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KAKO PISATI IOOP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628560" y="1412640"/>
            <a:ext cx="788688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nastavnik/učitelj dobije od stručnog suradnik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omogućiti više vremena za aktivnost, podijeliti zadatke u više manjih cjelina, usmjeravati pažnju, izbjegavati prepisivanje, preferirati usmenu provjeru znanja…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INICIJALNA PROCJENA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: Kako nastavnik vidi učenika u odnosu na predmet?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ff3300"/>
                </a:solidFill>
                <a:latin typeface="Gill Sans MT"/>
              </a:rPr>
              <a:t>TEMELJITI NA JAKIM STRANAMA! 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 motiviran je za sve sadržaje, primjenjuje sva naučena pravila, uspješno rješava različite vrste zadataka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SADRŽAJ EDUKACIJE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tema koja se obrađuje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rad s u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1700" spc="-1" strike="noStrike">
                <a:solidFill>
                  <a:srgbClr val="000000"/>
                </a:solidFill>
                <a:latin typeface="Gill Sans MT"/>
              </a:rPr>
              <a:t>CILJEVI: </a:t>
            </a:r>
            <a:r>
              <a:rPr b="0" lang="hr-HR" sz="1700" spc="-1" strike="noStrike">
                <a:solidFill>
                  <a:srgbClr val="000000"/>
                </a:solidFill>
                <a:latin typeface="Gill Sans MT"/>
              </a:rPr>
              <a:t>koja znanja će usvojiti 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  <a:p>
            <a:pPr marL="221400" indent="-221400">
              <a:lnSpc>
                <a:spcPct val="11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700" spc="-1" strike="noStrike">
                <a:solidFill>
                  <a:srgbClr val="009900"/>
                </a:solidFill>
                <a:latin typeface="Gill Sans MT"/>
              </a:rPr>
              <a:t>npr. samostalno ili uz pomoć učitelja/učiteljice rješavati jednostavne probleme koji se koriste ulaznim i izlaznim vrijednostima</a:t>
            </a:r>
            <a:endParaRPr b="0" lang="en-US" sz="17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hr-HR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539640" y="692280"/>
            <a:ext cx="835344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AKTIVNOSTI ZA UČENIKA/UČENICU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npr. učenik uz pomoć slaže jednostavan program služeći se naredbama ulaza, pridruživanja i izlaza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hr-HR" sz="2000" spc="-1" strike="noStrike">
                <a:solidFill>
                  <a:srgbClr val="000000"/>
                </a:solidFill>
                <a:latin typeface="Gill Sans MT"/>
              </a:rPr>
              <a:t>STRATEGIJE PODRŠKE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(prilagodba metoda, sredstava, oblika, postupaka, zahtjeva): koje metode će nastavnik primijeniti kako bi obradio temu u skladu sa specifičnim potrebama tog učenika/c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0000"/>
                </a:solidFill>
                <a:latin typeface="Gill Sans MT"/>
              </a:rPr>
              <a:t>npr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osigurati kratkotrajan odmo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prilagođavanje teksta (uvećanje i pojačanje tisk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9900"/>
                </a:solidFill>
                <a:latin typeface="Gill Sans MT"/>
              </a:rPr>
              <a:t>isticanja u tekstu (uokviravanje, podcrtavanje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 </a:t>
            </a:r>
            <a:r>
              <a:rPr b="0" lang="hr-HR" sz="2000" spc="-1" strike="noStrike">
                <a:solidFill>
                  <a:srgbClr val="009900"/>
                </a:solidFill>
                <a:latin typeface="Gill Sans MT"/>
              </a:rPr>
              <a:t>raščlanjivanje sadržaja na manje cjelin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8600" indent="-22860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42520" y="804600"/>
            <a:ext cx="6572520" cy="10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Gill Sans MT"/>
              </a:rPr>
              <a:t>PRIMJER ZA IOOP (5.R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442520" y="1413000"/>
            <a:ext cx="70167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Opis teškoć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ove teškoće proizlaze iz potreba povezanih sa specifičnim teškoćama čitanja i pisanja te teško održivom pažnjom i koncentracijom.  Učenik ima pozitivan odnos prema šk. obvezama. Pamti slikovite primjere, usporedbe, slike itd.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Specifične metode rada: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26080" indent="-226080">
              <a:lnSpc>
                <a:spcPct val="120000"/>
              </a:lnSpc>
              <a:spcBef>
                <a:spcPts val="1001"/>
              </a:spcBef>
              <a:buClr>
                <a:srgbClr val="b71e42"/>
              </a:buClr>
              <a:buFont typeface="Wingdings" charset="2"/>
              <a:buChar char="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hr-HR" sz="1800" spc="-1" strike="noStrike">
                <a:solidFill>
                  <a:srgbClr val="000000"/>
                </a:solidFill>
                <a:latin typeface="Gill Sans MT"/>
              </a:rPr>
              <a:t>Učeniku je potrebno individualno pristupiti. Jasno mu dati do znanja što se očekuje i provjeriti razumije li. Izbjegavati čitanje nepoznatog teksta. Prepisivanje svesti na minimum. Potrebno mu je češće usmjeravati pažnju na zadanu aktivnost. Omogućiti više vremena za zadatak. Složene zadatke potrebno je podijeliti u više manjih. Omogućiti mu kratke predahe više puta tijekom nastave. Poticati ga pohvalom i istaknuti ga u aktivnostima u kojima je uspješan.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3T16:58:23Z</dcterms:created>
  <dc:creator>dsp</dc:creator>
  <dc:description/>
  <dc:language>en-US</dc:language>
  <cp:lastModifiedBy>Marta Klobučar</cp:lastModifiedBy>
  <dcterms:modified xsi:type="dcterms:W3CDTF">2019-12-16T11:14:00Z</dcterms:modified>
  <cp:revision>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