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4122-0171-44B9-9548-72247897C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8FF1-4F61-479F-B7F1-E48F3393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8388-ABB4-437A-AC68-26C850EE9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63E8-8520-43D4-8202-11A2BE54C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3736-0EE0-4186-AA64-998BA4919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2C86-CBFE-4497-9EE0-15F9B0F2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34D4-5B82-44EA-A401-87E57071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AEDE-AAC8-4828-8051-C0CBBAAB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3FD4-6DF3-49A8-A082-58E5B298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FAB0-6068-490B-8EBF-032F5A5B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ABD7-9DE8-4B9C-8312-756345BB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9F3C-ABC0-486F-AB18-BDF1E6E7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8BA9-B6BB-48F9-A956-190C5A77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C354-924F-4401-9BDB-49EBC0E0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23B8-0C0C-4A3E-8351-01A8FAC9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9800-852F-4D03-93D7-F77E308A7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5C60-B8AD-4DD5-A821-F427BB8B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118C-651E-4EA9-A78E-E343D4AB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ADEF-7AD9-4AF8-A947-D7BBA0D7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A533-1899-4F14-AC9D-4FFD0059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E3DA-1E22-4B4D-A025-A69C9E27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8459-A5F6-44B3-83E3-550CDCE3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78C3-83FF-4319-BEFF-748C6C7D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C82C-E65F-48D2-A4C0-6B7D5613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852D-584E-47FE-8F99-6EFFE8CB1C5B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E7AC-5247-4325-80E7-184495FD700C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hr/imgres?imgurl=http://www.pekarna-stil.hr/UserRepository/image/104-Sendvic-bijeli.jpg&amp;imgrefurl=http://www.pekarna-stil.hr/psenicni-bijeli/26/Default.aspx&amp;usg=__SpsbHm_ywg3FeteUSTdcX0l2xuc=&amp;h=500&amp;w=500&amp;sz=25&amp;hl=hr&amp;start=22&amp;zoom=1&amp;um=1&amp;itbs=1&amp;tbnid=x2g9jSbLTJWRuM:&amp;tbnh=130&amp;tbnw=130&amp;prev=/images%3Fq%3Dsendvi%25C4%258D%26start%3D18%26um%3D1%26hl%3Dhr%26sa%3DN%26ndsp%3D18%26tbs%3Disch:1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google.hr/imgres?imgurl=http://www.biznistesanj.ba/logo/TOTO%2520-JELAH.JPG&amp;imgrefurl=http://www.biznistesanj.ba/%3Ffid%3D17185&amp;usg=__8OKcilCUJ0_m1UCk6ZDXab3VNVw=&amp;h=353&amp;w=470&amp;sz=45&amp;hl=hr&amp;start=29&amp;zoom=1&amp;um=1&amp;itbs=1&amp;tbnid=AIualeB2YPAbmM:&amp;tbnh=97&amp;tbnw=129&amp;prev=/images%3Fq%3Dsokovi%26start%3D18%26um%3D1%26hl%3Dhr%26sa%3DN%26ndsp%3D18%26tbs%3Disch:1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38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400" spc="-1" strike="noStrike">
                <a:solidFill>
                  <a:srgbClr val="000000"/>
                </a:solidFill>
                <a:latin typeface="Arial"/>
              </a:rPr>
              <a:t>TIPKOVNICA</a:t>
            </a:r>
            <a:br>
              <a:rPr sz="5400"/>
            </a:br>
            <a:r>
              <a:rPr b="0" lang="hr-HR" sz="5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hr-HR" sz="5400" spc="-1" strike="noStrike">
                <a:solidFill>
                  <a:srgbClr val="000000"/>
                </a:solidFill>
                <a:latin typeface="Arial"/>
              </a:rPr>
              <a:t>(Keyboard)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9280" y="3212640"/>
            <a:ext cx="770436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Windows Keyboard"/>
          <p:cNvPicPr/>
          <p:nvPr/>
        </p:nvPicPr>
        <p:blipFill>
          <a:blip r:embed="rId1"/>
          <a:stretch/>
        </p:blipFill>
        <p:spPr>
          <a:xfrm>
            <a:off x="179280" y="3716280"/>
            <a:ext cx="8572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000000"/>
                </a:solidFill>
                <a:latin typeface="Arial"/>
              </a:rPr>
              <a:t>6. Aktivacijske tipke</a:t>
            </a: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ira se način isključivanja računa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3200" spc="-1" strike="noStrike">
                <a:solidFill>
                  <a:srgbClr val="ff0066"/>
                </a:solidFill>
                <a:latin typeface="Arial"/>
              </a:rPr>
              <a:t>Power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– isključuje računa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3200" spc="-1" strike="noStrike">
                <a:solidFill>
                  <a:srgbClr val="3366ff"/>
                </a:solidFill>
                <a:latin typeface="Arial"/>
              </a:rPr>
              <a:t>Sleep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– prebacuje u stanje miro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3200" spc="-1" strike="noStrike">
                <a:solidFill>
                  <a:srgbClr val="ff6600"/>
                </a:solidFill>
                <a:latin typeface="Arial"/>
              </a:rPr>
              <a:t>Wake Up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– “budi” računalo iz stanja miro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000000"/>
                </a:solidFill>
                <a:latin typeface="Arial"/>
              </a:rPr>
              <a:t>LED indikatori</a:t>
            </a: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vjetleće male lampice koje pokazuju status prekidačkih tipki (da li je uključena ili isključena)Num Lock, Caps 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Standardna tipkovnica PC računala "/>
          <p:cNvPicPr/>
          <p:nvPr/>
        </p:nvPicPr>
        <p:blipFill>
          <a:blip r:embed="rId1"/>
          <a:stretch/>
        </p:blipFill>
        <p:spPr>
          <a:xfrm>
            <a:off x="1547640" y="3645000"/>
            <a:ext cx="5978520" cy="2238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372360" y="4076640"/>
            <a:ext cx="10080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72360" y="4076640"/>
            <a:ext cx="0" cy="28908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4365720"/>
            <a:ext cx="107928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80360" y="4076640"/>
            <a:ext cx="0" cy="36036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Održavanje tipkovni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1. Ugasite računa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2. Tipkovnicu prvo treba okrenuti naopačke da ispadne prljavšti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3. Tipke prebrisati vlažnom pamučnom krp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4378320"/>
            <a:ext cx="1512720" cy="1512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4114800"/>
            <a:ext cx="2519280" cy="18939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403280" y="4365720"/>
            <a:ext cx="2016360" cy="136836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187280" y="4292640"/>
            <a:ext cx="1656000" cy="1368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3933720"/>
            <a:ext cx="3024360" cy="21592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4932360" y="3860640"/>
            <a:ext cx="2519280" cy="23767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Vježba pisanj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1. Pokrenite MS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2. Napišite naslov – Vježba pis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3. Napišite tekst : Ariel, veličina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Vježba pisanj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ipkovnice se razlikuju po tome kojoj državi pripadaju, tj. govornom jeziku kojem su namjenj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 tome ovisi raspored i vrsta tipki na tipkovnici. Hrvatska tipkovnica je </a:t>
            </a:r>
            <a:r>
              <a:rPr b="0" lang="hr-HR" sz="3200" spc="-1" strike="noStrike">
                <a:solidFill>
                  <a:srgbClr val="ff0066"/>
                </a:solidFill>
                <a:latin typeface="Arial"/>
              </a:rPr>
              <a:t>QWERTZ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tipkovnica (prema prvom redu slov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stoje različite tipkovnice prema oblicima,boji, načinu spajanja (bežična) i namje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 pisanju VELIKIH SLOVA treba koristiti tipku Caps Lo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ko pogriješimo pri pisanju, možemo koristiti tipku Back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ff6600"/>
                </a:solidFill>
                <a:latin typeface="Arial"/>
              </a:rPr>
              <a:t>BUDI UPORAN I MARLJIV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jerujem da ćete biti vješti i brzi u pisanju na tipkovnici. Vježbaj i kod kuć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Foto: Thinkstock (net.hr)"/>
          <p:cNvPicPr/>
          <p:nvPr/>
        </p:nvPicPr>
        <p:blipFill>
          <a:blip r:embed="rId1"/>
          <a:stretch/>
        </p:blipFill>
        <p:spPr>
          <a:xfrm>
            <a:off x="1619280" y="3645000"/>
            <a:ext cx="3600360" cy="2419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Tipkovnic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66"/>
                </a:solidFill>
                <a:latin typeface="Arial"/>
              </a:rPr>
              <a:t>Tipkovnica je najvažnija ulazna jedinica račun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moću n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-  kontroliramo računal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-  upisujemo tekst, znakove,broje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Hrvatska tipkovnica je </a:t>
            </a:r>
            <a:r>
              <a:rPr b="0" lang="hr-HR" sz="3200" spc="-1" strike="noStrike">
                <a:solidFill>
                  <a:srgbClr val="ff0066"/>
                </a:solidFill>
                <a:latin typeface="Arial"/>
              </a:rPr>
              <a:t>QWERTZ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tipkovn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(prema prvom redu slo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1640" y="4008240"/>
            <a:ext cx="7345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ipkovnicu dijelimo na šest cjeli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Windows Keyboard"/>
          <p:cNvPicPr/>
          <p:nvPr/>
        </p:nvPicPr>
        <p:blipFill>
          <a:blip r:embed="rId1"/>
          <a:stretch/>
        </p:blipFill>
        <p:spPr>
          <a:xfrm>
            <a:off x="539640" y="260280"/>
            <a:ext cx="83520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000000"/>
                </a:solidFill>
                <a:latin typeface="Arial"/>
              </a:rPr>
              <a:t>1.Alfanumerički d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adrži tipke za slova, brojeve, interpunkcijske znakove (. , ; ! ? “ “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 specijalne znakove ( /, #, ( ), =, *,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- Veliko slov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)Caps Lock ( SVA SLOVA VELIK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) SHIFT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jedinačno pisanje velikog sl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Tipka Caps Lock"/>
          <p:cNvPicPr/>
          <p:nvPr/>
        </p:nvPicPr>
        <p:blipFill>
          <a:blip r:embed="rId1"/>
          <a:stretch/>
        </p:blipFill>
        <p:spPr>
          <a:xfrm>
            <a:off x="7596360" y="3933720"/>
            <a:ext cx="647640" cy="428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Tipka Shift"/>
          <p:cNvPicPr/>
          <p:nvPr/>
        </p:nvPicPr>
        <p:blipFill>
          <a:blip r:embed="rId2"/>
          <a:stretch/>
        </p:blipFill>
        <p:spPr>
          <a:xfrm>
            <a:off x="2916360" y="4508640"/>
            <a:ext cx="87624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000000"/>
                </a:solidFill>
                <a:latin typeface="Arial"/>
              </a:rPr>
              <a:t>2. Numerički dio </a:t>
            </a: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adrži sve tipke potrebne za unos i rad s brojk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256"/>
          <p:cNvPicPr/>
          <p:nvPr/>
        </p:nvPicPr>
        <p:blipFill>
          <a:blip r:embed="rId1"/>
          <a:stretch/>
        </p:blipFill>
        <p:spPr>
          <a:xfrm>
            <a:off x="853920" y="2997360"/>
            <a:ext cx="25257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hr-HR" sz="3400" spc="-1" strike="noStrike">
                <a:solidFill>
                  <a:srgbClr val="000000"/>
                </a:solidFill>
                <a:latin typeface="Arial"/>
              </a:rPr>
              <a:t>Kursorske tipke</a:t>
            </a:r>
            <a:br>
              <a:rPr sz="3400"/>
            </a:br>
            <a:r>
              <a:rPr b="1" lang="hr-HR" sz="3400" spc="-1" strike="noStrike">
                <a:solidFill>
                  <a:srgbClr val="000000"/>
                </a:solidFill>
                <a:latin typeface="Arial"/>
              </a:rPr>
              <a:t>(navigacijske)</a:t>
            </a:r>
            <a:r>
              <a:rPr b="0" lang="hr-HR" sz="3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risti se tijekom pisanja teksta u tablic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Tipka za navigaciju (strelice)"/>
          <p:cNvPicPr/>
          <p:nvPr/>
        </p:nvPicPr>
        <p:blipFill>
          <a:blip r:embed="rId1"/>
          <a:stretch/>
        </p:blipFill>
        <p:spPr>
          <a:xfrm>
            <a:off x="1403280" y="3573360"/>
            <a:ext cx="201636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000000"/>
                </a:solidFill>
                <a:latin typeface="Arial"/>
              </a:rPr>
              <a:t>4. Funkcijske tipke</a:t>
            </a: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(F1 do F12) – koriste ih pojedini korisnički programi, ako je dozvolj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Funkcijske tipke"/>
          <p:cNvPicPr/>
          <p:nvPr/>
        </p:nvPicPr>
        <p:blipFill>
          <a:blip r:embed="rId1"/>
          <a:stretch/>
        </p:blipFill>
        <p:spPr>
          <a:xfrm>
            <a:off x="755640" y="4221000"/>
            <a:ext cx="7632720" cy="6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hr-HR" sz="3800" spc="-1" strike="noStrike">
                <a:solidFill>
                  <a:srgbClr val="000000"/>
                </a:solidFill>
                <a:latin typeface="Arial"/>
              </a:rPr>
              <a:t>Ostale tipke posebne namje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zmaknica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Space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–najduža tip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ipke za brisanje pogreš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(vraćanje i brisan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ackSp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012680" y="3933720"/>
            <a:ext cx="1419480" cy="1511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284720" y="4005360"/>
            <a:ext cx="1028520" cy="1371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227640" y="3357720"/>
            <a:ext cx="1800360" cy="93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Novi red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363640" y="3789360"/>
            <a:ext cx="86364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Brojevi se mogu unositi i s numeričkog dijela tipkovnice ako je uključen prekidač [Num Lock]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987640" y="3308400"/>
            <a:ext cx="201600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2:39:40Z</dcterms:created>
  <dc:creator>Korisnik</dc:creator>
  <dc:description/>
  <dc:language>en-US</dc:language>
  <cp:lastModifiedBy>Korisnik</cp:lastModifiedBy>
  <dcterms:modified xsi:type="dcterms:W3CDTF">2011-01-07T19:39:03Z</dcterms:modified>
  <cp:revision>3</cp:revision>
  <dc:subject/>
  <dc:title>TIPKOVNICA                  (Keyboard) </dc:title>
</cp:coreProperties>
</file>