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739-227F-4BE5-A17A-7CD34066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FFA-B6C7-429A-9A63-A7F9F04D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DD5-91A7-4381-8183-3DD190D1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59B-8D80-4452-B020-16D28F32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51A7-567F-4899-8196-CB52CB0F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508B-B7F5-44CF-B379-D00439C2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01D4-6964-49D7-A634-375EF28C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E4ED-7F8F-4DFC-BFED-A9FBE4E4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819B-A5A6-4ADC-9237-3E39D4E3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5550-E151-4901-B9F8-3086D7EC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2173-2D58-49BA-A16D-6C930321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3C9-4393-4C9A-A086-83041FD0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4D32-732B-4836-898C-692E0A0C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4C98-2815-47AE-A309-648DF3F1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705A-F46B-4402-9F98-91325003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B743-CAAA-4E6A-B70C-A1023217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8BD0-CD2C-454B-9A06-45783CC7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F0A-B2EE-441F-8F01-74D7B90E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C77-3D5B-422F-9768-F6466347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41F-80FC-4EB8-BF3E-357FBBEA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A8F-BA99-4B9A-8176-0D9BC137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C42-F374-4C2B-BD34-E80D634B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218-B39B-4EAD-8C10-CC5AEDAA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435-870D-44AD-85E3-A30F6D61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C8BA-090D-4B35-AF7F-5AD44293B31C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363D-FFF3-4619-858A-4B18BC4E664C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hr/imgres?imgurl=http://www.pekarna-stil.hr/UserRepository/image/104-Sendvic-bijeli.jpg&amp;imgrefurl=http://www.pekarna-stil.hr/psenicni-bijeli/26/Default.aspx&amp;usg=__SpsbHm_ywg3FeteUSTdcX0l2xuc=&amp;h=500&amp;w=500&amp;sz=25&amp;hl=hr&amp;start=22&amp;zoom=1&amp;um=1&amp;itbs=1&amp;tbnid=x2g9jSbLTJWRuM:&amp;tbnh=130&amp;tbnw=130&amp;prev=/images%3Fq%3Dsendvi%25C4%258D%26start%3D18%26um%3D1%26hl%3Dhr%26sa%3DN%26ndsp%3D18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hr/imgres?imgurl=http://www.biznistesanj.ba/logo/TOTO%2520-JELAH.JPG&amp;imgrefurl=http://www.biznistesanj.ba/%3Ffid%3D17185&amp;usg=__8OKcilCUJ0_m1UCk6ZDXab3VNVw=&amp;h=353&amp;w=470&amp;sz=45&amp;hl=hr&amp;start=29&amp;zoom=1&amp;um=1&amp;itbs=1&amp;tbnid=AIualeB2YPAbmM:&amp;tbnh=97&amp;tbnw=129&amp;prev=/images%3Fq%3Dsokovi%26start%3D18%26um%3D1%26hl%3Dhr%26sa%3DN%26ndsp%3D18%26tbs%3Disch: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3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0000"/>
                </a:solidFill>
                <a:latin typeface="Arial"/>
              </a:rPr>
              <a:t>TIPKOVNICA</a:t>
            </a:r>
            <a:br>
              <a:rPr sz="5400"/>
            </a:br>
            <a:r>
              <a:rPr b="0" lang="hr-HR" sz="5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hr-HR" sz="5400" spc="-1" strike="noStrike">
                <a:solidFill>
                  <a:srgbClr val="000000"/>
                </a:solidFill>
                <a:latin typeface="Arial"/>
              </a:rPr>
              <a:t>(Keyboard)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9280" y="3212640"/>
            <a:ext cx="7704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Windows Keyboard"/>
          <p:cNvPicPr/>
          <p:nvPr/>
        </p:nvPicPr>
        <p:blipFill>
          <a:blip r:embed="rId1"/>
          <a:stretch/>
        </p:blipFill>
        <p:spPr>
          <a:xfrm>
            <a:off x="179280" y="3716280"/>
            <a:ext cx="857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6. Aktivacijske tipke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ira se način isključivanja računa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Powe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isključuje račun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3366ff"/>
                </a:solidFill>
                <a:latin typeface="Arial"/>
              </a:rPr>
              <a:t>Sleep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prebacuje u stanje mir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ff6600"/>
                </a:solidFill>
                <a:latin typeface="Arial"/>
              </a:rPr>
              <a:t>Wake Up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“budi” računalo iz stanja mir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LED indikatori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jetleće male lampice koje pokazuju status prekidačkih tipki (da li je uključena ili isključena)Num Lock, Caps 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Standardna tipkovnica PC računala "/>
          <p:cNvPicPr/>
          <p:nvPr/>
        </p:nvPicPr>
        <p:blipFill>
          <a:blip r:embed="rId1"/>
          <a:stretch/>
        </p:blipFill>
        <p:spPr>
          <a:xfrm>
            <a:off x="1547640" y="3645000"/>
            <a:ext cx="5978520" cy="2238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372360" y="4076640"/>
            <a:ext cx="1008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4076640"/>
            <a:ext cx="0" cy="2890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4365720"/>
            <a:ext cx="107928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80360" y="4076640"/>
            <a:ext cx="0" cy="36036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Održavanje tipkovn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Ugasite račun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Tipkovnicu prvo treba okrenuti naopačke da ispadne prljavšt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Tipke prebrisati vlažnom pamučnom krp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437832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4114800"/>
            <a:ext cx="2519280" cy="1893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03280" y="4365720"/>
            <a:ext cx="2016360" cy="13683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87280" y="4292640"/>
            <a:ext cx="1656000" cy="13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933720"/>
            <a:ext cx="3024360" cy="2159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932360" y="3860640"/>
            <a:ext cx="2519280" cy="2376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Vježba pisan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Pokrenite M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Napišite naslov – Vježba pis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Napišite tekst : Ariel, veličina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Vježba pisan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kovnice se razlikuju po tome kojoj državi pripadaju, tj. govornom jeziku kojem su namjen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 tome ovisi raspored i vrsta tipki na tipkovnici. Hrvatska tipkovnica je </a:t>
            </a: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QWERTZ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ipkovnica (prema prvom redu slo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je različite tipkovnice prema oblicima,boji, načinu spajanja (bežična) i namje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 pisanju VELIKIH SLOVA treba koristiti tipku Caps 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pogriješimo pri pisanju, možemo koristiti tipku Back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ff6600"/>
                </a:solidFill>
                <a:latin typeface="Arial"/>
              </a:rPr>
              <a:t>BUDI UPORAN I MARLJIV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jerujem da ćete biti vješti i brzi u pisanju na tipkovnici. Vježbaj i kod kuć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Foto: Thinkstock (net.hr)"/>
          <p:cNvPicPr/>
          <p:nvPr/>
        </p:nvPicPr>
        <p:blipFill>
          <a:blip r:embed="rId1"/>
          <a:stretch/>
        </p:blipFill>
        <p:spPr>
          <a:xfrm>
            <a:off x="1619280" y="3645000"/>
            <a:ext cx="3600360" cy="24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Tipkovn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Tipkovnica je najvažnija ulazna jedinica raču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moću 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 kontroliramo računa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 upisujemo tekst, znakove,broje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rvatska tipkovnica je </a:t>
            </a: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QWERTZ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ipkov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prema prvom redu slo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4008240"/>
            <a:ext cx="734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kovnicu dijelimo na šest cjel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Windows Keyboard"/>
          <p:cNvPicPr/>
          <p:nvPr/>
        </p:nvPicPr>
        <p:blipFill>
          <a:blip r:embed="rId1"/>
          <a:stretch/>
        </p:blipFill>
        <p:spPr>
          <a:xfrm>
            <a:off x="539640" y="260280"/>
            <a:ext cx="83520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1.Alfanumerički d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rži tipke za slova, brojeve, interpunkcijske znakove (. , ; ! ? “ 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specijalne znakove ( /, #, ( ), =, *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Veliko slov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)Caps Lock ( SVA SLOVA VEL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) SHIFT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jedinačno pisanje velikog s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Tipka Caps Lock"/>
          <p:cNvPicPr/>
          <p:nvPr/>
        </p:nvPicPr>
        <p:blipFill>
          <a:blip r:embed="rId1"/>
          <a:stretch/>
        </p:blipFill>
        <p:spPr>
          <a:xfrm>
            <a:off x="7596360" y="3933720"/>
            <a:ext cx="647640" cy="42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Tipka Shift"/>
          <p:cNvPicPr/>
          <p:nvPr/>
        </p:nvPicPr>
        <p:blipFill>
          <a:blip r:embed="rId2"/>
          <a:stretch/>
        </p:blipFill>
        <p:spPr>
          <a:xfrm>
            <a:off x="2916360" y="4508640"/>
            <a:ext cx="8762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2. Numerički dio 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rži sve tipke potrebne za unos i rad s broj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256"/>
          <p:cNvPicPr/>
          <p:nvPr/>
        </p:nvPicPr>
        <p:blipFill>
          <a:blip r:embed="rId1"/>
          <a:stretch/>
        </p:blipFill>
        <p:spPr>
          <a:xfrm>
            <a:off x="853920" y="2997360"/>
            <a:ext cx="2525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hr-HR" sz="3400" spc="-1" strike="noStrike">
                <a:solidFill>
                  <a:srgbClr val="000000"/>
                </a:solidFill>
                <a:latin typeface="Arial"/>
              </a:rPr>
              <a:t>Kursorske tipke</a:t>
            </a:r>
            <a:br>
              <a:rPr sz="3400"/>
            </a:br>
            <a:r>
              <a:rPr b="1" lang="hr-HR" sz="3400" spc="-1" strike="noStrike">
                <a:solidFill>
                  <a:srgbClr val="000000"/>
                </a:solidFill>
                <a:latin typeface="Arial"/>
              </a:rPr>
              <a:t>(navigacijske)</a:t>
            </a: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risti se tijekom pisanja teksta u tabli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Tipka za navigaciju (strelice)"/>
          <p:cNvPicPr/>
          <p:nvPr/>
        </p:nvPicPr>
        <p:blipFill>
          <a:blip r:embed="rId1"/>
          <a:stretch/>
        </p:blipFill>
        <p:spPr>
          <a:xfrm>
            <a:off x="1403280" y="3573360"/>
            <a:ext cx="201636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4. Funkcijske tipke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F1 do F12) – koriste ih pojedini korisnički programi, ako je dozvolj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Funkcijske tipke"/>
          <p:cNvPicPr/>
          <p:nvPr/>
        </p:nvPicPr>
        <p:blipFill>
          <a:blip r:embed="rId1"/>
          <a:stretch/>
        </p:blipFill>
        <p:spPr>
          <a:xfrm>
            <a:off x="755640" y="4221000"/>
            <a:ext cx="763272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Ostale tipke posebne namje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maknic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–najduža tip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ke za brisanje pogre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vraćanje i brisan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ackS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12680" y="3933720"/>
            <a:ext cx="141948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284720" y="4005360"/>
            <a:ext cx="102852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27640" y="3357720"/>
            <a:ext cx="180036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ovi red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63640" y="3789360"/>
            <a:ext cx="86364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rojevi se mogu unositi i s numeričkog dijela tipkovnice ako je uključen prekidač [Num Lock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87640" y="3308400"/>
            <a:ext cx="20160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39:40Z</dcterms:created>
  <dc:creator>Korisnik</dc:creator>
  <dc:description/>
  <dc:language>en-US</dc:language>
  <cp:lastModifiedBy>Korisnik</cp:lastModifiedBy>
  <dcterms:modified xsi:type="dcterms:W3CDTF">2011-01-07T19:39:03Z</dcterms:modified>
  <cp:revision>3</cp:revision>
  <dc:subject/>
  <dc:title>TIPKOVNICA                  (Keyboard) </dc:title>
</cp:coreProperties>
</file>