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DB2-BAD5-4FFE-A17C-5333F409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FCF-F054-451F-B8F0-7588C47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A34-7679-4429-9597-1056E78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B5D-B833-4EAE-9ED9-7A61D067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C90-A5A2-4CC0-9401-36A6B8E1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2D8-584C-4E34-A1A0-49C1FC2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84F2-0B2B-45C5-87C4-9D81299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DBB-9518-4457-B8B5-639E589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D46-A0CF-4953-9455-04F7F2A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FAE-3709-4486-B18E-608EAF0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432B-B4A8-4113-AFD5-1BCF601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2FB-CD8D-4464-9A70-3517E708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7B1-BFCB-46F8-9D9C-90C3CD5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1ED-ECC6-471F-87AD-1F3E0A1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E52-B291-4EB4-B107-394D3D03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61AD-37A6-40CD-B352-C87B4896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3A9C-010C-4F9E-9E35-CC8D5AA5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DE4-E06C-4698-A722-D401E697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2B7-1967-493A-8721-C32849E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A6B-32E6-4F6B-919C-2A73925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70F-3B65-4F69-ADBE-19AA865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72C-37FD-496C-B2D5-DC1BD15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533-36F1-4D90-8A42-4286EB6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DF3-B085-4363-91EE-BFAB5F1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6010-3E91-4F59-8585-9150EB621D1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E02-2A3E-4E1D-B6C4-B7957CE4470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www.pekarna-stil.hr/UserRepository/image/104-Sendvic-bijeli.jpg&amp;imgrefurl=http://www.pekarna-stil.hr/psenicni-bijeli/26/Default.aspx&amp;usg=__SpsbHm_ywg3FeteUSTdcX0l2xuc=&amp;h=500&amp;w=500&amp;sz=25&amp;hl=hr&amp;start=22&amp;zoom=1&amp;um=1&amp;itbs=1&amp;tbnid=x2g9jSbLTJWRuM:&amp;tbnh=130&amp;tbnw=130&amp;prev=/images%3Fq%3Dsendvi%25C4%258D%26start%3D18%26um%3D1%26hl%3Dhr%26sa%3DN%26ndsp%3D18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hr/imgres?imgurl=http://www.biznistesanj.ba/logo/TOTO%2520-JELAH.JPG&amp;imgrefurl=http://www.biznistesanj.ba/%3Ffid%3D17185&amp;usg=__8OKcilCUJ0_m1UCk6ZDXab3VNVw=&amp;h=353&amp;w=470&amp;sz=45&amp;hl=hr&amp;start=29&amp;zoom=1&amp;um=1&amp;itbs=1&amp;tbnid=AIualeB2YPAbmM:&amp;tbnh=97&amp;tbnw=129&amp;prev=/images%3Fq%3Dsokovi%26start%3D18%26um%3D1%26hl%3Dhr%26sa%3DN%26ndsp%3D18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3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TIPKOVNICA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(Keyboard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212640"/>
            <a:ext cx="7704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Windows Keyboard"/>
          <p:cNvPicPr/>
          <p:nvPr/>
        </p:nvPicPr>
        <p:blipFill>
          <a:blip r:embed="rId1"/>
          <a:stretch/>
        </p:blipFill>
        <p:spPr>
          <a:xfrm>
            <a:off x="179280" y="3716280"/>
            <a:ext cx="857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6. Aktiva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ra se način isključivanja račun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Powe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sključuj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Sleep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prebacuje u stanje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6600"/>
                </a:solidFill>
                <a:latin typeface="Arial"/>
              </a:rPr>
              <a:t>Wake U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“budi” računalo iz stanja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LED indikatori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jetleće male lampice koje pokazuju status prekidačkih tipki (da li je uključena ili isključena)Num Lock, Caps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Standardna tipkovnica PC računala "/>
          <p:cNvPicPr/>
          <p:nvPr/>
        </p:nvPicPr>
        <p:blipFill>
          <a:blip r:embed="rId1"/>
          <a:stretch/>
        </p:blipFill>
        <p:spPr>
          <a:xfrm>
            <a:off x="1547640" y="3645000"/>
            <a:ext cx="5978520" cy="22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2360" y="4076640"/>
            <a:ext cx="100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76640"/>
            <a:ext cx="0" cy="289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1079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Održavanje tipkov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Ugasit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Tipkovnicu prvo treba okrenuti naopačke da ispadne prljavšt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Tipke prebrisati vlažnom pamučnom krp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4378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114800"/>
            <a:ext cx="251928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4365720"/>
            <a:ext cx="2016360" cy="136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4292640"/>
            <a:ext cx="1656000" cy="13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933720"/>
            <a:ext cx="3024360" cy="2159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32360" y="3860640"/>
            <a:ext cx="2519280" cy="2376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Pokrenite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Napišite naslov – Vježba pis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Napišite tekst : Ariel, veličina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e se razlikuju po tome kojoj državi pripadaju, tj. govornom jeziku kojem su namjen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tome ovisi raspored i vrsta tipki na tipkovnici. 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(prema prvom redu slo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ličite tipkovnice prema oblicima,boji, načinu spajanja (bežična) i nam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pisanju VELIKIH SLOVA treba koristiti tipku Caps 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pogriješimo pri pisanju, možemo koristiti tipku Back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6600"/>
                </a:solidFill>
                <a:latin typeface="Arial"/>
              </a:rPr>
              <a:t>BUDI UPORAN I MARLJIV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jerujem da ćete biti vješti i brzi u pisanju na tipkovnici. Vježbaj i kod k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oto: Thinkstock (net.hr)"/>
          <p:cNvPicPr/>
          <p:nvPr/>
        </p:nvPicPr>
        <p:blipFill>
          <a:blip r:embed="rId1"/>
          <a:stretch/>
        </p:blipFill>
        <p:spPr>
          <a:xfrm>
            <a:off x="1619280" y="3645000"/>
            <a:ext cx="360036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Tipkovnica je najvažnija ulazna jedinica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kontroliramo račun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upisujemo tekst, znakove,broj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prema prvom redu sl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400824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u dijelimo na šest cjel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Windows Keyboard"/>
          <p:cNvPicPr/>
          <p:nvPr/>
        </p:nvPicPr>
        <p:blipFill>
          <a:blip r:embed="rId1"/>
          <a:stretch/>
        </p:blipFill>
        <p:spPr>
          <a:xfrm>
            <a:off x="539640" y="260280"/>
            <a:ext cx="8352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1.Alfanumerički d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tipke za slova, brojeve, interpunkcijske znakove (. , ; ! ? “ 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pecijalne znakove ( /, #, ( ), =, *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Veliko slov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Caps Lock ( SVA SLOVA VEL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SHIFT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edinačno pisanje velikog 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ipka Caps Lock"/>
          <p:cNvPicPr/>
          <p:nvPr/>
        </p:nvPicPr>
        <p:blipFill>
          <a:blip r:embed="rId1"/>
          <a:stretch/>
        </p:blipFill>
        <p:spPr>
          <a:xfrm>
            <a:off x="7596360" y="393372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ipka Shift"/>
          <p:cNvPicPr/>
          <p:nvPr/>
        </p:nvPicPr>
        <p:blipFill>
          <a:blip r:embed="rId2"/>
          <a:stretch/>
        </p:blipFill>
        <p:spPr>
          <a:xfrm>
            <a:off x="2916360" y="4508640"/>
            <a:ext cx="8762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2. Numerički dio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sve tipke potrebne za unos i rad s broj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256"/>
          <p:cNvPicPr/>
          <p:nvPr/>
        </p:nvPicPr>
        <p:blipFill>
          <a:blip r:embed="rId1"/>
          <a:stretch/>
        </p:blipFill>
        <p:spPr>
          <a:xfrm>
            <a:off x="853920" y="2997360"/>
            <a:ext cx="2525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Kursorske tipke</a:t>
            </a:r>
            <a:br>
              <a:rPr sz="3400"/>
            </a:b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(navigacijske)</a:t>
            </a: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 se tijekom pisanja teksta u tabl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ipka za navigaciju (strelice)"/>
          <p:cNvPicPr/>
          <p:nvPr/>
        </p:nvPicPr>
        <p:blipFill>
          <a:blip r:embed="rId1"/>
          <a:stretch/>
        </p:blipFill>
        <p:spPr>
          <a:xfrm>
            <a:off x="1403280" y="3573360"/>
            <a:ext cx="2016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4. Funk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F1 do F12) – koriste ih pojedini korisnički programi, ako je dozvolj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unkcijske tipke"/>
          <p:cNvPicPr/>
          <p:nvPr/>
        </p:nvPicPr>
        <p:blipFill>
          <a:blip r:embed="rId1"/>
          <a:stretch/>
        </p:blipFill>
        <p:spPr>
          <a:xfrm>
            <a:off x="755640" y="4221000"/>
            <a:ext cx="7632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Ostale tipke posebne namj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aknic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–najduža ti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e za brisanj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vraćanje i bris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ack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2680" y="3933720"/>
            <a:ext cx="1419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27640" y="3357720"/>
            <a:ext cx="180036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i re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3640" y="3789360"/>
            <a:ext cx="863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ojevi se mogu unositi i s numeričkog dijela tipkovnice ako je uključen prekidač [Num Lock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3308400"/>
            <a:ext cx="2016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39:40Z</dcterms:created>
  <dc:creator>Korisnik</dc:creator>
  <dc:description/>
  <dc:language>en-US</dc:language>
  <cp:lastModifiedBy>Korisnik</cp:lastModifiedBy>
  <dcterms:modified xsi:type="dcterms:W3CDTF">2011-01-07T19:39:03Z</dcterms:modified>
  <cp:revision>3</cp:revision>
  <dc:subject/>
  <dc:title>TIPKOVNICA                  (Keyboard) </dc:title>
</cp:coreProperties>
</file>